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748720" y="4941720"/>
            <a:ext cx="247680" cy="117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ics4u.co.uk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1371600" y="685800"/>
            <a:ext cx="624852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eacher’s Notes</a:t>
            </a:r>
            <a:endParaRPr b="0" lang="en-US" sz="16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is sequence of slides is designed to introduce, and explain </a:t>
            </a:r>
            <a:r>
              <a:rPr b="1" lang="en-GB" sz="1400" spc="-1" strike="noStrike">
                <a:solidFill>
                  <a:srgbClr val="3333cc"/>
                </a:solidFill>
                <a:latin typeface="Verdana"/>
              </a:rPr>
              <a:t>dispersion by a prism to produce a spectrum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, as explained on page 210 in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GCSE Physics for You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(5</a:t>
            </a:r>
            <a:r>
              <a:rPr b="0" lang="en-GB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edition).</a:t>
            </a: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n each slide the key points are revealed step by step, at the click of your mouse (or the press of a key such as the space-bar).</a:t>
            </a: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efore making the next mouse-click you can ask questions of the class or make statements about what is about to be revealed.</a:t>
            </a: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is should help students to become clearer about the ideas involved.</a:t>
            </a: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aturally it pays to have quick practice-run first.</a:t>
            </a: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 start the slide-show, press function-key F5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or right-click-&gt;Full Screen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o return to ‘normal view’ press the &lt;Esc&gt; key).</a:t>
            </a: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 more free PowerPoint presentations, visit </a:t>
            </a: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www.physics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4u</a:t>
            </a:r>
            <a:r>
              <a:rPr b="1" lang="en-GB" sz="1400" spc="-1" strike="noStrike">
                <a:solidFill>
                  <a:srgbClr val="0066ff"/>
                </a:solidFill>
                <a:latin typeface="Verdana"/>
              </a:rPr>
              <a:t>.co.uk </a:t>
            </a:r>
            <a:endParaRPr b="0" lang="en-US" sz="14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5800" y="1905120"/>
            <a:ext cx="75438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Understand what happens when white light enters a prism,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 marL="388800" indent="-388800"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Distinguish between deviation and dispersion,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 marL="388800" indent="-388800"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Know the colours of the spectrum, in order,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 marL="388800" indent="-388800"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Understand the connection between colour and wavelength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04880" y="59220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wis721 Md BT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You should now: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  <p:transition spd="slow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914400" y="762120"/>
            <a:ext cx="72388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For more details, see: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>
              <a:spcBef>
                <a:spcPts val="28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 </a:t>
            </a:r>
            <a:r>
              <a:rPr b="1" i="1" lang="en-GB" sz="2800" spc="-1" strike="noStrike">
                <a:solidFill>
                  <a:srgbClr val="3333cc"/>
                </a:solidFill>
                <a:latin typeface="Swis721 Md BT"/>
              </a:rPr>
              <a:t>Physics for You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, page 210 - 211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>
              <a:spcBef>
                <a:spcPts val="35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For more free PowerPoints, visit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>
              <a:spcBef>
                <a:spcPts val="28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the web-site at  </a:t>
            </a:r>
            <a:r>
              <a:rPr b="1" lang="en-GB" sz="2800" spc="-1" strike="noStrike">
                <a:solidFill>
                  <a:srgbClr val="3333cc"/>
                </a:solidFill>
                <a:latin typeface="Swis721 Md BT"/>
              </a:rPr>
              <a:t>www.physics</a:t>
            </a:r>
            <a:r>
              <a:rPr b="1" lang="en-GB" sz="2800" spc="-1" strike="noStrike">
                <a:solidFill>
                  <a:srgbClr val="333399"/>
                </a:solidFill>
                <a:latin typeface="Swis721 Md BT"/>
              </a:rPr>
              <a:t>4u</a:t>
            </a:r>
            <a:r>
              <a:rPr b="1" lang="en-GB" sz="2800" spc="-1" strike="noStrike">
                <a:solidFill>
                  <a:srgbClr val="3333cc"/>
                </a:solidFill>
                <a:latin typeface="Swis721 Md BT"/>
              </a:rPr>
              <a:t>.co.uk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828800" y="2743200"/>
            <a:ext cx="464832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676520" y="1447920"/>
            <a:ext cx="56386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wis721 Md BT"/>
              </a:rPr>
              <a:t>If you are connected to the web at the moment, click below to see what’s available:</a:t>
            </a: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wis721 Md BT"/>
              </a:rPr>
              <a:t>    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Swis721 Md BT"/>
                <a:hlinkClick r:id="rId1"/>
              </a:rPr>
              <a:t>http://www.physics4u.co.uk/</a:t>
            </a: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3"/>
          <p:cNvSpPr/>
          <p:nvPr/>
        </p:nvSpPr>
        <p:spPr>
          <a:xfrm>
            <a:off x="762120" y="15238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Dispersion by a prism</a:t>
            </a:r>
            <a:endParaRPr b="0" lang="en-US" sz="44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39" name="Text Box 4"/>
          <p:cNvSpPr/>
          <p:nvPr/>
        </p:nvSpPr>
        <p:spPr>
          <a:xfrm>
            <a:off x="1295280" y="35053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Swis721 Md BT"/>
              </a:rPr>
              <a:t>Physics for You</a:t>
            </a:r>
            <a:r>
              <a:rPr b="0" lang="en-GB" sz="2800" spc="-1" strike="noStrike">
                <a:solidFill>
                  <a:srgbClr val="3333cc"/>
                </a:solidFill>
                <a:latin typeface="Swis721 Md BT"/>
              </a:rPr>
              <a:t>, pages 210 - 211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762120" y="2252520"/>
            <a:ext cx="7619760" cy="33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625"/>
              </a:spcBef>
              <a:buClr>
                <a:srgbClr val="ff99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How a light ray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Swis721 Md BT"/>
              </a:rPr>
              <a:t>deviated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by a prism,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 marL="388800" indent="-388800">
              <a:spcBef>
                <a:spcPts val="2625"/>
              </a:spcBef>
              <a:buClr>
                <a:srgbClr val="ff99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How whit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Swis721 Md BT"/>
              </a:rPr>
              <a:t>dispersed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by a prism,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 marL="388800" indent="-388800">
              <a:spcBef>
                <a:spcPts val="3149"/>
              </a:spcBef>
              <a:buClr>
                <a:srgbClr val="ff99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The colours of a white ligh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Swis721 Md BT"/>
              </a:rPr>
              <a:t>spectrum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 marL="388800" indent="-388800">
              <a:spcBef>
                <a:spcPts val="3149"/>
              </a:spcBef>
              <a:buClr>
                <a:srgbClr val="ff99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About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Swis721 Md BT"/>
              </a:rPr>
              <a:t>wavelengths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of different colours.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819000" y="609480"/>
            <a:ext cx="5105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wis721 Md BT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You should learn : 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216 -prism alone"/>
          <p:cNvPicPr/>
          <p:nvPr/>
        </p:nvPicPr>
        <p:blipFill>
          <a:blip r:embed="rId1"/>
          <a:stretch/>
        </p:blipFill>
        <p:spPr>
          <a:xfrm>
            <a:off x="2647800" y="609480"/>
            <a:ext cx="2151360" cy="1936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09480" y="457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Here is a glass prism: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grpSp>
        <p:nvGrpSpPr>
          <p:cNvPr id="44" name="Group 17"/>
          <p:cNvGrpSpPr/>
          <p:nvPr/>
        </p:nvGrpSpPr>
        <p:grpSpPr>
          <a:xfrm>
            <a:off x="304920" y="1670040"/>
            <a:ext cx="2908080" cy="996840"/>
            <a:chOff x="304920" y="1670040"/>
            <a:chExt cx="2908080" cy="996840"/>
          </a:xfrm>
        </p:grpSpPr>
        <p:sp>
          <p:nvSpPr>
            <p:cNvPr id="45" name="Line 7"/>
            <p:cNvSpPr/>
            <p:nvPr/>
          </p:nvSpPr>
          <p:spPr>
            <a:xfrm flipH="1">
              <a:off x="304920" y="1670040"/>
              <a:ext cx="2908080" cy="99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  <p:sp>
          <p:nvSpPr>
            <p:cNvPr id="46" name="Line 8"/>
            <p:cNvSpPr/>
            <p:nvPr/>
          </p:nvSpPr>
          <p:spPr>
            <a:xfrm flipV="1">
              <a:off x="1610280" y="2084760"/>
              <a:ext cx="386280" cy="13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sp>
        <p:nvSpPr>
          <p:cNvPr id="47" name="Text Box 12"/>
          <p:cNvSpPr/>
          <p:nvPr/>
        </p:nvSpPr>
        <p:spPr>
          <a:xfrm>
            <a:off x="609480" y="3124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A ray of white light arrives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533520" y="304920"/>
            <a:ext cx="2286000" cy="12189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609480" y="3048120"/>
            <a:ext cx="4496040" cy="7617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"/>
          <p:cNvSpPr/>
          <p:nvPr/>
        </p:nvSpPr>
        <p:spPr>
          <a:xfrm>
            <a:off x="609480" y="3714840"/>
            <a:ext cx="74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It is (mainly)   </a:t>
            </a:r>
            <a:r>
              <a:rPr b="0" lang="en-GB" sz="3200" spc="-1" strike="noStrike">
                <a:solidFill>
                  <a:srgbClr val="ffff66"/>
                </a:solidFill>
                <a:latin typeface="Swis721 Md BT"/>
              </a:rPr>
              <a:t>reflected</a:t>
            </a: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    or   </a:t>
            </a:r>
            <a:r>
              <a:rPr b="0" lang="en-GB" sz="3200" spc="-1" strike="noStrike">
                <a:solidFill>
                  <a:srgbClr val="ffff66"/>
                </a:solidFill>
                <a:latin typeface="Swis721 Md BT"/>
              </a:rPr>
              <a:t>refracted </a:t>
            </a:r>
            <a:r>
              <a:rPr b="0" lang="en-GB" sz="3200" spc="-1" strike="noStrike">
                <a:solidFill>
                  <a:srgbClr val="ffffff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Swis721 Md BT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2895480" y="3562200"/>
            <a:ext cx="4876920" cy="685800"/>
            <a:chOff x="2895480" y="3562200"/>
            <a:chExt cx="4876920" cy="685800"/>
          </a:xfrm>
        </p:grpSpPr>
        <p:sp>
          <p:nvSpPr>
            <p:cNvPr id="52" name="Rectangle 12"/>
            <p:cNvSpPr/>
            <p:nvPr/>
          </p:nvSpPr>
          <p:spPr>
            <a:xfrm>
              <a:off x="2895480" y="3638520"/>
              <a:ext cx="2473560" cy="60948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7318440" y="3562200"/>
              <a:ext cx="453960" cy="68580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pic>
        <p:nvPicPr>
          <p:cNvPr id="54" name="Picture 2" descr="p216 -prism alone"/>
          <p:cNvPicPr/>
          <p:nvPr/>
        </p:nvPicPr>
        <p:blipFill>
          <a:blip r:embed="rId1"/>
          <a:stretch/>
        </p:blipFill>
        <p:spPr>
          <a:xfrm>
            <a:off x="2647800" y="609480"/>
            <a:ext cx="2151360" cy="19368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4"/>
          <p:cNvGrpSpPr/>
          <p:nvPr/>
        </p:nvGrpSpPr>
        <p:grpSpPr>
          <a:xfrm>
            <a:off x="304920" y="1670040"/>
            <a:ext cx="2908080" cy="996840"/>
            <a:chOff x="304920" y="1670040"/>
            <a:chExt cx="2908080" cy="996840"/>
          </a:xfrm>
        </p:grpSpPr>
        <p:sp>
          <p:nvSpPr>
            <p:cNvPr id="56" name="Line 5"/>
            <p:cNvSpPr/>
            <p:nvPr/>
          </p:nvSpPr>
          <p:spPr>
            <a:xfrm flipH="1">
              <a:off x="304920" y="1670040"/>
              <a:ext cx="2908080" cy="99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  <p:sp>
          <p:nvSpPr>
            <p:cNvPr id="57" name="Line 6"/>
            <p:cNvSpPr/>
            <p:nvPr/>
          </p:nvSpPr>
          <p:spPr>
            <a:xfrm flipV="1">
              <a:off x="1610280" y="2084760"/>
              <a:ext cx="386280" cy="13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sp>
        <p:nvSpPr>
          <p:cNvPr id="58" name="Text Box 11"/>
          <p:cNvSpPr/>
          <p:nvPr/>
        </p:nvSpPr>
        <p:spPr>
          <a:xfrm>
            <a:off x="1828800" y="41911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Swis721 Md BT"/>
              </a:rPr>
              <a:t>away from</a:t>
            </a:r>
            <a:r>
              <a:rPr b="0" lang="en-GB" sz="3200" spc="-1" strike="noStrike">
                <a:solidFill>
                  <a:srgbClr val="ffffff"/>
                </a:solidFill>
                <a:latin typeface="Swis721 Md BT"/>
              </a:rPr>
              <a:t>      or       </a:t>
            </a:r>
            <a:r>
              <a:rPr b="0" lang="en-GB" sz="3200" spc="-1" strike="noStrike">
                <a:solidFill>
                  <a:srgbClr val="ffff66"/>
                </a:solidFill>
                <a:latin typeface="Swis721 Md BT"/>
              </a:rPr>
              <a:t>towards</a:t>
            </a:r>
            <a:r>
              <a:rPr b="0" lang="en-GB" sz="3200" spc="-1" strike="noStrike">
                <a:solidFill>
                  <a:srgbClr val="66ffff"/>
                </a:solidFill>
                <a:latin typeface="Swis721 Md BT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Swis721 Md BT"/>
              </a:rPr>
              <a:t>the normal               the normal</a:t>
            </a:r>
            <a:endParaRPr b="0" lang="en-US" sz="32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752480" y="4267080"/>
            <a:ext cx="3429000" cy="9144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609480" y="30621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What happens to the ray of light?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609480" y="525780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But different colours are refracted by different angles.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2819520" y="1447920"/>
            <a:ext cx="914400" cy="53316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216 -prism alone"/>
          <p:cNvPicPr/>
          <p:nvPr/>
        </p:nvPicPr>
        <p:blipFill>
          <a:blip r:embed="rId1"/>
          <a:stretch/>
        </p:blipFill>
        <p:spPr>
          <a:xfrm>
            <a:off x="2647800" y="609480"/>
            <a:ext cx="2151360" cy="193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p216 -middle rays alone"/>
          <p:cNvPicPr/>
          <p:nvPr/>
        </p:nvPicPr>
        <p:blipFill>
          <a:blip r:embed="rId2"/>
          <a:stretch/>
        </p:blipFill>
        <p:spPr>
          <a:xfrm>
            <a:off x="3219480" y="1495440"/>
            <a:ext cx="1176480" cy="3808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2"/>
          <p:cNvGrpSpPr/>
          <p:nvPr/>
        </p:nvGrpSpPr>
        <p:grpSpPr>
          <a:xfrm>
            <a:off x="304920" y="1670040"/>
            <a:ext cx="2908080" cy="996840"/>
            <a:chOff x="304920" y="1670040"/>
            <a:chExt cx="2908080" cy="996840"/>
          </a:xfrm>
        </p:grpSpPr>
        <p:sp>
          <p:nvSpPr>
            <p:cNvPr id="66" name="Line 7"/>
            <p:cNvSpPr/>
            <p:nvPr/>
          </p:nvSpPr>
          <p:spPr>
            <a:xfrm flipH="1">
              <a:off x="304920" y="1670040"/>
              <a:ext cx="2908080" cy="99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  <p:sp>
          <p:nvSpPr>
            <p:cNvPr id="67" name="Line 8"/>
            <p:cNvSpPr/>
            <p:nvPr/>
          </p:nvSpPr>
          <p:spPr>
            <a:xfrm flipV="1">
              <a:off x="1610280" y="2079720"/>
              <a:ext cx="386280" cy="138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60948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In fact, the ray is :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609480" y="3496320"/>
            <a:ext cx="7772400" cy="1226880"/>
            <a:chOff x="609480" y="3496320"/>
            <a:chExt cx="7772400" cy="1226880"/>
          </a:xfrm>
        </p:grpSpPr>
        <p:sp>
          <p:nvSpPr>
            <p:cNvPr id="70" name="Text Box 13"/>
            <p:cNvSpPr/>
            <p:nvPr/>
          </p:nvSpPr>
          <p:spPr>
            <a:xfrm>
              <a:off x="609480" y="37339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ffffff"/>
                </a:buClr>
                <a:buFont typeface="Swis721 Md B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Swis721 Md BT"/>
                </a:rPr>
                <a:t>                      </a:t>
              </a:r>
              <a:r>
                <a:rPr b="0" lang="en-GB" sz="2800" spc="-1" strike="noStrike">
                  <a:solidFill>
                    <a:srgbClr val="ffffff"/>
                  </a:solidFill>
                  <a:latin typeface="Swis721 Md BT"/>
                </a:rPr>
                <a:t>(bent through an angle), and</a:t>
              </a:r>
              <a:endParaRPr b="0" lang="en-US" sz="28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  <p:grpSp>
          <p:nvGrpSpPr>
            <p:cNvPr id="71" name="Group 19"/>
            <p:cNvGrpSpPr/>
            <p:nvPr/>
          </p:nvGrpSpPr>
          <p:grpSpPr>
            <a:xfrm>
              <a:off x="813240" y="3496320"/>
              <a:ext cx="2060280" cy="1226880"/>
              <a:chOff x="813240" y="3496320"/>
              <a:chExt cx="2060280" cy="1226880"/>
            </a:xfrm>
          </p:grpSpPr>
          <p:sp>
            <p:nvSpPr>
              <p:cNvPr id="72" name="Text Box 15"/>
              <p:cNvSpPr/>
              <p:nvPr/>
            </p:nvSpPr>
            <p:spPr>
              <a:xfrm rot="20945400">
                <a:off x="857160" y="3605040"/>
                <a:ext cx="120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 u="sng">
                    <a:solidFill>
                      <a:srgbClr val="ffffff"/>
                    </a:solidFill>
                    <a:uFillTx/>
                    <a:latin typeface="Swis721 Md BT"/>
                  </a:rPr>
                  <a:t>devi</a:t>
                </a:r>
                <a:endParaRPr b="0" lang="en-US" sz="32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  <p:sp>
            <p:nvSpPr>
              <p:cNvPr id="73" name="Text Box 16"/>
              <p:cNvSpPr/>
              <p:nvPr/>
            </p:nvSpPr>
            <p:spPr>
              <a:xfrm rot="558000">
                <a:off x="1762200" y="3578040"/>
                <a:ext cx="1031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 u="sng">
                    <a:solidFill>
                      <a:srgbClr val="ffffff"/>
                    </a:solidFill>
                    <a:uFillTx/>
                    <a:latin typeface="Swis721 Md BT"/>
                  </a:rPr>
                  <a:t>ated</a:t>
                </a:r>
                <a:endParaRPr b="0" lang="en-US" sz="32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</p:grpSp>
      </p:grpSp>
      <p:sp>
        <p:nvSpPr>
          <p:cNvPr id="74" name="Text Box 20"/>
          <p:cNvSpPr/>
          <p:nvPr/>
        </p:nvSpPr>
        <p:spPr>
          <a:xfrm>
            <a:off x="609480" y="4343400"/>
            <a:ext cx="7772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 </a:t>
            </a:r>
            <a:r>
              <a:rPr b="0" lang="en-GB" sz="3200" spc="-1" strike="noStrike">
                <a:solidFill>
                  <a:srgbClr val="ff5050"/>
                </a:solidFill>
                <a:latin typeface="Swis721 Md BT"/>
              </a:rPr>
              <a:t>dis</a:t>
            </a:r>
            <a:r>
              <a:rPr b="0" lang="en-GB" sz="3200" spc="-1" strike="noStrike">
                <a:solidFill>
                  <a:srgbClr val="ccff66"/>
                </a:solidFill>
                <a:latin typeface="Swis721 Md BT"/>
              </a:rPr>
              <a:t>pers</a:t>
            </a:r>
            <a:r>
              <a:rPr b="0" lang="en-GB" sz="3200" spc="-1" strike="noStrike">
                <a:solidFill>
                  <a:srgbClr val="6699ff"/>
                </a:solidFill>
                <a:latin typeface="Swis721 Md BT"/>
              </a:rPr>
              <a:t>ed</a:t>
            </a: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   (split up into separate colours)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like this.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216 -prism alone"/>
          <p:cNvPicPr/>
          <p:nvPr/>
        </p:nvPicPr>
        <p:blipFill>
          <a:blip r:embed="rId1"/>
          <a:stretch/>
        </p:blipFill>
        <p:spPr>
          <a:xfrm>
            <a:off x="2647800" y="609480"/>
            <a:ext cx="2151360" cy="193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p216 -middle rays alone"/>
          <p:cNvPicPr/>
          <p:nvPr/>
        </p:nvPicPr>
        <p:blipFill>
          <a:blip r:embed="rId2"/>
          <a:stretch/>
        </p:blipFill>
        <p:spPr>
          <a:xfrm>
            <a:off x="3219480" y="1495440"/>
            <a:ext cx="1176480" cy="3808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6"/>
          <p:cNvGrpSpPr/>
          <p:nvPr/>
        </p:nvGrpSpPr>
        <p:grpSpPr>
          <a:xfrm>
            <a:off x="304920" y="1670040"/>
            <a:ext cx="2908080" cy="996840"/>
            <a:chOff x="304920" y="1670040"/>
            <a:chExt cx="2908080" cy="996840"/>
          </a:xfrm>
        </p:grpSpPr>
        <p:sp>
          <p:nvSpPr>
            <p:cNvPr id="78" name="Line 7"/>
            <p:cNvSpPr/>
            <p:nvPr/>
          </p:nvSpPr>
          <p:spPr>
            <a:xfrm flipH="1">
              <a:off x="304920" y="1670040"/>
              <a:ext cx="2908080" cy="99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610280" y="2079720"/>
              <a:ext cx="386280" cy="138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sp>
        <p:nvSpPr>
          <p:cNvPr id="80" name="Text Box 12"/>
          <p:cNvSpPr/>
          <p:nvPr/>
        </p:nvSpPr>
        <p:spPr>
          <a:xfrm>
            <a:off x="609480" y="31384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What happens now?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grpSp>
        <p:nvGrpSpPr>
          <p:cNvPr id="81" name="Group 15"/>
          <p:cNvGrpSpPr/>
          <p:nvPr/>
        </p:nvGrpSpPr>
        <p:grpSpPr>
          <a:xfrm>
            <a:off x="4172040" y="1440000"/>
            <a:ext cx="4514760" cy="2601000"/>
            <a:chOff x="4172040" y="1440000"/>
            <a:chExt cx="4514760" cy="2601000"/>
          </a:xfrm>
        </p:grpSpPr>
        <p:grpSp>
          <p:nvGrpSpPr>
            <p:cNvPr id="82" name="Group 13"/>
            <p:cNvGrpSpPr/>
            <p:nvPr/>
          </p:nvGrpSpPr>
          <p:grpSpPr>
            <a:xfrm>
              <a:off x="4172040" y="1440000"/>
              <a:ext cx="4514760" cy="2560680"/>
              <a:chOff x="4172040" y="1440000"/>
              <a:chExt cx="4514760" cy="2560680"/>
            </a:xfrm>
          </p:grpSpPr>
          <p:pic>
            <p:nvPicPr>
              <p:cNvPr id="83" name="Picture 9" descr="p216 -right rays alone"/>
              <p:cNvPicPr/>
              <p:nvPr/>
            </p:nvPicPr>
            <p:blipFill>
              <a:blip r:embed="rId3"/>
              <a:stretch/>
            </p:blipFill>
            <p:spPr>
              <a:xfrm>
                <a:off x="4172040" y="1440000"/>
                <a:ext cx="4402080" cy="256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10"/>
              <p:cNvSpPr/>
              <p:nvPr/>
            </p:nvSpPr>
            <p:spPr>
              <a:xfrm>
                <a:off x="8153280" y="2452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2929"/>
                    </a:solidFill>
                    <a:latin typeface="Swis721 Md BT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  <p:sp>
            <p:nvSpPr>
              <p:cNvPr id="85" name="Text Box 11"/>
              <p:cNvSpPr/>
              <p:nvPr/>
            </p:nvSpPr>
            <p:spPr>
              <a:xfrm>
                <a:off x="7848720" y="32767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c462fe"/>
                    </a:solidFill>
                    <a:latin typeface="Swis721 Md BT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</p:grpSp>
        <p:sp>
          <p:nvSpPr>
            <p:cNvPr id="86" name="Text Box 14"/>
            <p:cNvSpPr/>
            <p:nvPr/>
          </p:nvSpPr>
          <p:spPr>
            <a:xfrm>
              <a:off x="6705720" y="3581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Swis721 Md BT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sp>
        <p:nvSpPr>
          <p:cNvPr id="87" name="Rectangle 16"/>
          <p:cNvSpPr/>
          <p:nvPr/>
        </p:nvSpPr>
        <p:spPr>
          <a:xfrm>
            <a:off x="609480" y="3105000"/>
            <a:ext cx="3657600" cy="53352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609480" y="40384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Swis721 Md BT"/>
              </a:rPr>
              <a:t>Red </a:t>
            </a: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 is deviated    most / least ?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09480" y="4724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462fe"/>
                </a:solidFill>
                <a:latin typeface="Swis721 Md BT"/>
              </a:rPr>
              <a:t>Violet</a:t>
            </a:r>
            <a:r>
              <a:rPr b="0" lang="en-GB" sz="2800" spc="-1" strike="noStrike">
                <a:solidFill>
                  <a:srgbClr val="9b75f9"/>
                </a:solidFill>
                <a:latin typeface="Swis721 Md BT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 is deviated    most / least ?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3409920" y="4052880"/>
            <a:ext cx="2895480" cy="5205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Swis721 Md BT"/>
              </a:rPr>
              <a:t>least 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3676680" y="4724280"/>
            <a:ext cx="2895480" cy="5205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462fe"/>
                </a:solidFill>
                <a:latin typeface="Swis721 Md BT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45"/>
          <p:cNvSpPr/>
          <p:nvPr/>
        </p:nvSpPr>
        <p:spPr>
          <a:xfrm>
            <a:off x="609480" y="4267080"/>
            <a:ext cx="716292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</p:txBody>
      </p:sp>
      <p:pic>
        <p:nvPicPr>
          <p:cNvPr id="93" name="Picture 1026" descr="p216 -prism alone"/>
          <p:cNvPicPr/>
          <p:nvPr/>
        </p:nvPicPr>
        <p:blipFill>
          <a:blip r:embed="rId1"/>
          <a:stretch/>
        </p:blipFill>
        <p:spPr>
          <a:xfrm>
            <a:off x="2647800" y="609480"/>
            <a:ext cx="2151360" cy="193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7" descr="p216 -middle rays alone"/>
          <p:cNvPicPr/>
          <p:nvPr/>
        </p:nvPicPr>
        <p:blipFill>
          <a:blip r:embed="rId2"/>
          <a:stretch/>
        </p:blipFill>
        <p:spPr>
          <a:xfrm>
            <a:off x="3219480" y="1495440"/>
            <a:ext cx="1176480" cy="3808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028"/>
          <p:cNvGrpSpPr/>
          <p:nvPr/>
        </p:nvGrpSpPr>
        <p:grpSpPr>
          <a:xfrm>
            <a:off x="304920" y="1670040"/>
            <a:ext cx="2908080" cy="996840"/>
            <a:chOff x="304920" y="1670040"/>
            <a:chExt cx="2908080" cy="996840"/>
          </a:xfrm>
        </p:grpSpPr>
        <p:sp>
          <p:nvSpPr>
            <p:cNvPr id="96" name="Line 1029"/>
            <p:cNvSpPr/>
            <p:nvPr/>
          </p:nvSpPr>
          <p:spPr>
            <a:xfrm flipH="1">
              <a:off x="304920" y="1670040"/>
              <a:ext cx="2908080" cy="99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  <p:sp>
          <p:nvSpPr>
            <p:cNvPr id="97" name="Line 1030"/>
            <p:cNvSpPr/>
            <p:nvPr/>
          </p:nvSpPr>
          <p:spPr>
            <a:xfrm flipV="1">
              <a:off x="1610280" y="2079720"/>
              <a:ext cx="386280" cy="138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grpSp>
        <p:nvGrpSpPr>
          <p:cNvPr id="98" name="Group 1032"/>
          <p:cNvGrpSpPr/>
          <p:nvPr/>
        </p:nvGrpSpPr>
        <p:grpSpPr>
          <a:xfrm>
            <a:off x="4172040" y="1440000"/>
            <a:ext cx="4514760" cy="2601000"/>
            <a:chOff x="4172040" y="1440000"/>
            <a:chExt cx="4514760" cy="2601000"/>
          </a:xfrm>
        </p:grpSpPr>
        <p:grpSp>
          <p:nvGrpSpPr>
            <p:cNvPr id="99" name="Group 1033"/>
            <p:cNvGrpSpPr/>
            <p:nvPr/>
          </p:nvGrpSpPr>
          <p:grpSpPr>
            <a:xfrm>
              <a:off x="4172040" y="1440000"/>
              <a:ext cx="4514760" cy="2560680"/>
              <a:chOff x="4172040" y="1440000"/>
              <a:chExt cx="4514760" cy="2560680"/>
            </a:xfrm>
          </p:grpSpPr>
          <p:pic>
            <p:nvPicPr>
              <p:cNvPr id="100" name="Picture 1034" descr="p216 -right rays alone"/>
              <p:cNvPicPr/>
              <p:nvPr/>
            </p:nvPicPr>
            <p:blipFill>
              <a:blip r:embed="rId3"/>
              <a:stretch/>
            </p:blipFill>
            <p:spPr>
              <a:xfrm>
                <a:off x="4172040" y="1440000"/>
                <a:ext cx="4402080" cy="256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1035"/>
              <p:cNvSpPr/>
              <p:nvPr/>
            </p:nvSpPr>
            <p:spPr>
              <a:xfrm>
                <a:off x="8153280" y="2452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2929"/>
                    </a:solidFill>
                    <a:latin typeface="Swis721 Md BT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  <p:sp>
            <p:nvSpPr>
              <p:cNvPr id="102" name="Text Box 1036"/>
              <p:cNvSpPr/>
              <p:nvPr/>
            </p:nvSpPr>
            <p:spPr>
              <a:xfrm>
                <a:off x="7848720" y="32767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c660fe"/>
                    </a:solidFill>
                    <a:latin typeface="Swis721 Md BT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</p:grpSp>
        <p:sp>
          <p:nvSpPr>
            <p:cNvPr id="103" name="Text Box 1037"/>
            <p:cNvSpPr/>
            <p:nvPr/>
          </p:nvSpPr>
          <p:spPr>
            <a:xfrm>
              <a:off x="6705720" y="3581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Swis721 Md BT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sp>
        <p:nvSpPr>
          <p:cNvPr id="104" name="Text Box 1040"/>
          <p:cNvSpPr/>
          <p:nvPr/>
        </p:nvSpPr>
        <p:spPr>
          <a:xfrm>
            <a:off x="609480" y="2971800"/>
            <a:ext cx="4114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There is a  </a:t>
            </a:r>
            <a:r>
              <a:rPr b="0" lang="en-GB" sz="3200" spc="-1" strike="noStrike">
                <a:solidFill>
                  <a:srgbClr val="ffffff"/>
                </a:solidFill>
                <a:latin typeface="Swis721 Md BT"/>
              </a:rPr>
              <a:t>spectrum</a:t>
            </a: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Swis721 Md BT"/>
              </a:rPr>
              <a:t>on the screen:</a:t>
            </a:r>
            <a:endParaRPr b="0" lang="en-US" sz="2800" spc="-1" strike="noStrike">
              <a:solidFill>
                <a:srgbClr val="000000"/>
              </a:solidFill>
              <a:latin typeface="Swis721 Md BT"/>
            </a:endParaRPr>
          </a:p>
        </p:txBody>
      </p:sp>
      <p:pic>
        <p:nvPicPr>
          <p:cNvPr id="105" name="Picture 1043" descr="p216 -spectrum"/>
          <p:cNvPicPr/>
          <p:nvPr/>
        </p:nvPicPr>
        <p:blipFill>
          <a:blip r:embed="rId4"/>
          <a:stretch/>
        </p:blipFill>
        <p:spPr>
          <a:xfrm>
            <a:off x="685800" y="4371840"/>
            <a:ext cx="6953400" cy="352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44"/>
          <p:cNvSpPr/>
          <p:nvPr/>
        </p:nvSpPr>
        <p:spPr>
          <a:xfrm>
            <a:off x="609480" y="4952880"/>
            <a:ext cx="70866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7700"/>
                </a:solidFill>
                <a:latin typeface="Arial"/>
              </a:rPr>
              <a:t>Or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d2cd00"/>
                </a:solidFill>
                <a:latin typeface="Arial"/>
              </a:rPr>
              <a:t>Yell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e000"/>
                </a:solidFill>
                <a:latin typeface="Arial"/>
              </a:rPr>
              <a:t>Gre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B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8a04dc"/>
                </a:solidFill>
                <a:latin typeface="Arial"/>
              </a:rPr>
              <a:t>Indigo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d800d8"/>
                </a:solidFill>
                <a:latin typeface="Arial"/>
              </a:rPr>
              <a:t>Violet</a:t>
            </a: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800d8"/>
                </a:solidFill>
                <a:latin typeface="Arial"/>
              </a:rPr>
              <a:t>                          </a:t>
            </a: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4000" spc="-1" strike="noStrike">
                <a:solidFill>
                  <a:srgbClr val="ff77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d2cd00"/>
                </a:solidFill>
                <a:latin typeface="Arial"/>
              </a:rPr>
              <a:t>Y </a:t>
            </a:r>
            <a:r>
              <a:rPr b="1" lang="en-GB" sz="4000" spc="-1" strike="noStrike">
                <a:solidFill>
                  <a:srgbClr val="d800d8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e000"/>
                </a:solidFill>
                <a:latin typeface="Arial"/>
              </a:rPr>
              <a:t>G</a:t>
            </a:r>
            <a:r>
              <a:rPr b="1" lang="en-GB" sz="4000" spc="-1" strike="noStrike">
                <a:solidFill>
                  <a:srgbClr val="d800d8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en-GB" sz="4000" spc="-1" strike="noStrike">
                <a:solidFill>
                  <a:srgbClr val="8a04dc"/>
                </a:solidFill>
                <a:latin typeface="Arial"/>
              </a:rPr>
              <a:t>I</a:t>
            </a:r>
            <a:r>
              <a:rPr b="1" lang="en-GB" sz="4000" spc="-1" strike="noStrike">
                <a:solidFill>
                  <a:srgbClr val="d800d8"/>
                </a:solidFill>
                <a:latin typeface="Arial"/>
              </a:rPr>
              <a:t>V</a:t>
            </a:r>
            <a:r>
              <a:rPr b="1" lang="en-GB" sz="2400" spc="-1" strike="noStrike">
                <a:solidFill>
                  <a:srgbClr val="d800d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wis721 Md BT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990720" y="3808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wis721 Md BT"/>
              </a:rPr>
              <a:t>What is the real differenc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Swis721 Md BT"/>
              </a:rPr>
              <a:t>between red and violet light ?</a:t>
            </a:r>
            <a:endParaRPr b="0" lang="en-US" sz="3200" spc="-1" strike="noStrike">
              <a:solidFill>
                <a:srgbClr val="000000"/>
              </a:solidFill>
              <a:latin typeface="Swis721 Md BT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1523880" y="1447920"/>
            <a:ext cx="2438640" cy="990360"/>
            <a:chOff x="1523880" y="1447920"/>
            <a:chExt cx="2438640" cy="990360"/>
          </a:xfrm>
        </p:grpSpPr>
        <p:grpSp>
          <p:nvGrpSpPr>
            <p:cNvPr id="109" name="Group 9"/>
            <p:cNvGrpSpPr/>
            <p:nvPr/>
          </p:nvGrpSpPr>
          <p:grpSpPr>
            <a:xfrm>
              <a:off x="1523880" y="1447920"/>
              <a:ext cx="2438640" cy="863640"/>
              <a:chOff x="1523880" y="1447920"/>
              <a:chExt cx="2438640" cy="86364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1523880" y="1447920"/>
                <a:ext cx="1905120" cy="86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8b01d7"/>
                    </a:solidFill>
                    <a:latin typeface="Swis721 Md BT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Swis721 Md BT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8b01d7"/>
                    </a:solidFill>
                    <a:latin typeface="Swis721 Md BT"/>
                  </a:rPr>
                  <a:t>10 000</a:t>
                </a:r>
                <a:endParaRPr b="0" lang="en-US" sz="24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  <p:sp>
            <p:nvSpPr>
              <p:cNvPr id="111" name="Line 6"/>
              <p:cNvSpPr/>
              <p:nvPr/>
            </p:nvSpPr>
            <p:spPr>
              <a:xfrm>
                <a:off x="2057400" y="1866960"/>
                <a:ext cx="838080" cy="0"/>
              </a:xfrm>
              <a:prstGeom prst="line">
                <a:avLst/>
              </a:prstGeom>
              <a:ln w="38160">
                <a:solidFill>
                  <a:srgbClr val="8b0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  <p:sp>
            <p:nvSpPr>
              <p:cNvPr id="112" name="Text Box 7"/>
              <p:cNvSpPr/>
              <p:nvPr/>
            </p:nvSpPr>
            <p:spPr>
              <a:xfrm>
                <a:off x="2971800" y="1600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8b01d7"/>
                    </a:solidFill>
                    <a:latin typeface="Swis721 Md BT"/>
                  </a:rPr>
                  <a:t>mm</a:t>
                </a:r>
                <a:endParaRPr b="0" lang="en-US" sz="24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</p:grpSp>
        <p:sp>
          <p:nvSpPr>
            <p:cNvPr id="113" name="Line 10"/>
            <p:cNvSpPr/>
            <p:nvPr/>
          </p:nvSpPr>
          <p:spPr>
            <a:xfrm>
              <a:off x="2000160" y="243828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grpSp>
        <p:nvGrpSpPr>
          <p:cNvPr id="114" name="Group 29"/>
          <p:cNvGrpSpPr/>
          <p:nvPr/>
        </p:nvGrpSpPr>
        <p:grpSpPr>
          <a:xfrm>
            <a:off x="1447920" y="2514600"/>
            <a:ext cx="6210360" cy="781200"/>
            <a:chOff x="1447920" y="2514600"/>
            <a:chExt cx="6210360" cy="781200"/>
          </a:xfrm>
        </p:grpSpPr>
        <p:pic>
          <p:nvPicPr>
            <p:cNvPr id="115" name="Picture 22" descr="p217 waves violet only -no labels"/>
            <p:cNvPicPr/>
            <p:nvPr/>
          </p:nvPicPr>
          <p:blipFill>
            <a:blip r:embed="rId1"/>
            <a:stretch/>
          </p:blipFill>
          <p:spPr>
            <a:xfrm>
              <a:off x="1447920" y="2514600"/>
              <a:ext cx="50274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8"/>
            <p:cNvSpPr/>
            <p:nvPr/>
          </p:nvSpPr>
          <p:spPr>
            <a:xfrm>
              <a:off x="6210360" y="259092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8b01d7"/>
                  </a:solidFill>
                  <a:latin typeface="Swis721 Md BT"/>
                </a:rPr>
                <a:t>violet</a:t>
              </a:r>
              <a:endParaRPr b="0" lang="en-US" sz="28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grpSp>
        <p:nvGrpSpPr>
          <p:cNvPr id="117" name="Group 26"/>
          <p:cNvGrpSpPr/>
          <p:nvPr/>
        </p:nvGrpSpPr>
        <p:grpSpPr>
          <a:xfrm>
            <a:off x="4038480" y="1752480"/>
            <a:ext cx="2438640" cy="609840"/>
            <a:chOff x="4038480" y="1752480"/>
            <a:chExt cx="2438640" cy="609840"/>
          </a:xfrm>
        </p:grpSpPr>
        <p:sp>
          <p:nvSpPr>
            <p:cNvPr id="118" name="Line 20"/>
            <p:cNvSpPr/>
            <p:nvPr/>
          </p:nvSpPr>
          <p:spPr>
            <a:xfrm>
              <a:off x="4152960" y="23623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  <p:sp>
          <p:nvSpPr>
            <p:cNvPr id="119" name="Text Box 21"/>
            <p:cNvSpPr/>
            <p:nvPr/>
          </p:nvSpPr>
          <p:spPr>
            <a:xfrm>
              <a:off x="4038480" y="175248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Swis721 Md BT"/>
                </a:rPr>
                <a:t>wavelength</a:t>
              </a:r>
              <a:endParaRPr b="0" lang="en-US" sz="28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  <p:grpSp>
        <p:nvGrpSpPr>
          <p:cNvPr id="120" name="Group 30"/>
          <p:cNvGrpSpPr/>
          <p:nvPr/>
        </p:nvGrpSpPr>
        <p:grpSpPr>
          <a:xfrm>
            <a:off x="1600200" y="3745080"/>
            <a:ext cx="5943600" cy="826920"/>
            <a:chOff x="1600200" y="3745080"/>
            <a:chExt cx="5943600" cy="826920"/>
          </a:xfrm>
        </p:grpSpPr>
        <p:sp>
          <p:nvSpPr>
            <p:cNvPr id="121" name="Text Box 19"/>
            <p:cNvSpPr/>
            <p:nvPr/>
          </p:nvSpPr>
          <p:spPr>
            <a:xfrm>
              <a:off x="6553080" y="38862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Swis721 Md BT"/>
                </a:rPr>
                <a:t>red</a:t>
              </a:r>
              <a:endParaRPr b="0" lang="en-US" sz="28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  <p:pic>
          <p:nvPicPr>
            <p:cNvPr id="122" name="Picture 23" descr="p217 waves red only -no labels"/>
            <p:cNvPicPr/>
            <p:nvPr/>
          </p:nvPicPr>
          <p:blipFill>
            <a:blip r:embed="rId2"/>
            <a:stretch/>
          </p:blipFill>
          <p:spPr>
            <a:xfrm>
              <a:off x="1600200" y="3745080"/>
              <a:ext cx="5027760" cy="8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28"/>
          <p:cNvGrpSpPr/>
          <p:nvPr/>
        </p:nvGrpSpPr>
        <p:grpSpPr>
          <a:xfrm>
            <a:off x="2819520" y="4603680"/>
            <a:ext cx="2438280" cy="946440"/>
            <a:chOff x="2819520" y="4603680"/>
            <a:chExt cx="2438280" cy="946440"/>
          </a:xfrm>
        </p:grpSpPr>
        <p:grpSp>
          <p:nvGrpSpPr>
            <p:cNvPr id="124" name="Group 17"/>
            <p:cNvGrpSpPr/>
            <p:nvPr/>
          </p:nvGrpSpPr>
          <p:grpSpPr>
            <a:xfrm>
              <a:off x="2819520" y="4686480"/>
              <a:ext cx="2438280" cy="863640"/>
              <a:chOff x="2819520" y="4686480"/>
              <a:chExt cx="2438280" cy="863640"/>
            </a:xfrm>
          </p:grpSpPr>
          <p:sp>
            <p:nvSpPr>
              <p:cNvPr id="125" name="Text Box 13"/>
              <p:cNvSpPr/>
              <p:nvPr/>
            </p:nvSpPr>
            <p:spPr>
              <a:xfrm>
                <a:off x="2819520" y="4686480"/>
                <a:ext cx="1905120" cy="86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Swis721 Md BT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Swis721 Md BT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Swis721 Md BT"/>
                  </a:rPr>
                  <a:t>10 000</a:t>
                </a:r>
                <a:endParaRPr b="0" lang="en-US" sz="24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3353040" y="5105520"/>
                <a:ext cx="838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  <p:sp>
            <p:nvSpPr>
              <p:cNvPr id="127" name="Text Box 15"/>
              <p:cNvSpPr/>
              <p:nvPr/>
            </p:nvSpPr>
            <p:spPr>
              <a:xfrm>
                <a:off x="4267440" y="48387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Swis721 Md BT"/>
                  </a:rPr>
                  <a:t>mm</a:t>
                </a:r>
                <a:endParaRPr b="0" lang="en-US" sz="2400" spc="-1" strike="noStrike">
                  <a:solidFill>
                    <a:srgbClr val="000000"/>
                  </a:solidFill>
                  <a:latin typeface="Swis721 Md BT"/>
                </a:endParaRPr>
              </a:p>
            </p:txBody>
          </p:sp>
        </p:grpSp>
        <p:sp>
          <p:nvSpPr>
            <p:cNvPr id="128" name="Line 11"/>
            <p:cNvSpPr/>
            <p:nvPr/>
          </p:nvSpPr>
          <p:spPr>
            <a:xfrm>
              <a:off x="2921040" y="4603680"/>
              <a:ext cx="172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wis721 Md BT"/>
              </a:endParaRPr>
            </a:p>
          </p:txBody>
        </p:sp>
      </p:grpSp>
    </p:spTree>
  </p:cSld>
  <p:transition spd="slow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00:01Z</dcterms:created>
  <dc:creator>Keith Johnson   keith@timetabler.com    (c) 2004</dc:creator>
  <dc:description/>
  <dc:language>en-US</dc:language>
  <cp:lastModifiedBy>Keith</cp:lastModifiedBy>
  <dcterms:modified xsi:type="dcterms:W3CDTF">2017-04-26T19:47:31Z</dcterms:modified>
  <cp:revision>199</cp:revision>
  <dc:subject>Light waves</dc:subject>
  <dc:title>Dispersion by a prism</dc:title>
</cp:coreProperties>
</file>