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8F26-E52B-49B6-9C20-0ECFD573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C6F-EEC7-484A-9798-7B069A2A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908-66DA-48AF-857C-ED9BB337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074-2352-4861-8485-E81968C1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DF3-5229-4D5A-AD1B-2376C47D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A117-2B26-4700-B946-6D50FA09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3E8-37E7-4D77-AE31-56825C51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3FDD-DE8D-4C04-A2AD-07C55FC9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D96F-F8CE-43D2-A6C7-418B4C7D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50C-F898-4D8D-A2C4-2BE13926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D81B-7858-4416-A90B-B801B2F7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20F-9898-4322-A8C4-784D3EB7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3355-DCCC-407C-8A3F-7BB79DB635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hysics4u.co.uk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hysics4u.co.uk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Part 1: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Light through Coloured Filt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ype in your nam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Part 2: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Reflection and Absorption of Coloured Light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ype in your nam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3ebf1"/>
                </a:solidFill>
                <a:latin typeface="Arial"/>
              </a:rPr>
              <a:t>White light reflecting off White paper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ite light is made up of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f the colours of the spectr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en it hits white paper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f the colours are refl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means that white light is given off and the paper looks wh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Group 17"/>
          <p:cNvGrpSpPr/>
          <p:nvPr/>
        </p:nvGrpSpPr>
        <p:grpSpPr>
          <a:xfrm>
            <a:off x="4669920" y="3968640"/>
            <a:ext cx="2838960" cy="1945080"/>
            <a:chOff x="4669920" y="3968640"/>
            <a:chExt cx="2838960" cy="1945080"/>
          </a:xfrm>
        </p:grpSpPr>
        <p:grpSp>
          <p:nvGrpSpPr>
            <p:cNvPr id="138" name="Group 11"/>
            <p:cNvGrpSpPr/>
            <p:nvPr/>
          </p:nvGrpSpPr>
          <p:grpSpPr>
            <a:xfrm>
              <a:off x="4669920" y="4450320"/>
              <a:ext cx="2164680" cy="1463400"/>
              <a:chOff x="4669920" y="4450320"/>
              <a:chExt cx="2164680" cy="1463400"/>
            </a:xfrm>
          </p:grpSpPr>
          <p:sp>
            <p:nvSpPr>
              <p:cNvPr id="139" name="Rectangle 4"/>
              <p:cNvSpPr/>
              <p:nvPr/>
            </p:nvSpPr>
            <p:spPr>
              <a:xfrm rot="19816800">
                <a:off x="4534200" y="5009400"/>
                <a:ext cx="2271240" cy="55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5"/>
              <p:cNvSpPr/>
              <p:nvPr/>
            </p:nvSpPr>
            <p:spPr>
              <a:xfrm rot="19816800">
                <a:off x="4561200" y="5058000"/>
                <a:ext cx="2271240" cy="550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6"/>
              <p:cNvSpPr/>
              <p:nvPr/>
            </p:nvSpPr>
            <p:spPr>
              <a:xfrm rot="19816800">
                <a:off x="4588920" y="5105880"/>
                <a:ext cx="2271240" cy="55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7"/>
              <p:cNvSpPr/>
              <p:nvPr/>
            </p:nvSpPr>
            <p:spPr>
              <a:xfrm rot="19816800">
                <a:off x="4616640" y="5153760"/>
                <a:ext cx="2271240" cy="5544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8"/>
              <p:cNvSpPr/>
              <p:nvPr/>
            </p:nvSpPr>
            <p:spPr>
              <a:xfrm rot="19816800">
                <a:off x="4643640" y="5202360"/>
                <a:ext cx="2271240" cy="550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9"/>
              <p:cNvSpPr/>
              <p:nvPr/>
            </p:nvSpPr>
            <p:spPr>
              <a:xfrm rot="19816800">
                <a:off x="4671360" y="5250240"/>
                <a:ext cx="2271240" cy="554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0"/>
              <p:cNvSpPr/>
              <p:nvPr/>
            </p:nvSpPr>
            <p:spPr>
              <a:xfrm rot="19816800">
                <a:off x="4699080" y="5298480"/>
                <a:ext cx="2271240" cy="55440"/>
              </a:xfrm>
              <a:prstGeom prst="rect">
                <a:avLst/>
              </a:pr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AutoShape 14"/>
            <p:cNvSpPr/>
            <p:nvPr/>
          </p:nvSpPr>
          <p:spPr>
            <a:xfrm rot="19816800">
              <a:off x="5951160" y="4287240"/>
              <a:ext cx="1476000" cy="720720"/>
            </a:xfrm>
            <a:prstGeom prst="rightArrow">
              <a:avLst>
                <a:gd name="adj1" fmla="val 55250"/>
                <a:gd name="adj2" fmla="val 1235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15"/>
          <p:cNvSpPr/>
          <p:nvPr/>
        </p:nvSpPr>
        <p:spPr>
          <a:xfrm>
            <a:off x="1150920" y="6021360"/>
            <a:ext cx="684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te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8"/>
          <p:cNvGrpSpPr/>
          <p:nvPr/>
        </p:nvGrpSpPr>
        <p:grpSpPr>
          <a:xfrm>
            <a:off x="1476360" y="4313880"/>
            <a:ext cx="2882160" cy="1835280"/>
            <a:chOff x="1476360" y="4313880"/>
            <a:chExt cx="2882160" cy="1835280"/>
          </a:xfrm>
        </p:grpSpPr>
        <p:grpSp>
          <p:nvGrpSpPr>
            <p:cNvPr id="149" name="Group 19"/>
            <p:cNvGrpSpPr/>
            <p:nvPr/>
          </p:nvGrpSpPr>
          <p:grpSpPr>
            <a:xfrm>
              <a:off x="1476360" y="4313880"/>
              <a:ext cx="2199960" cy="1377360"/>
              <a:chOff x="1476360" y="4313880"/>
              <a:chExt cx="2199960" cy="1377360"/>
            </a:xfrm>
          </p:grpSpPr>
          <p:sp>
            <p:nvSpPr>
              <p:cNvPr id="150" name="Rectangle 20"/>
              <p:cNvSpPr/>
              <p:nvPr/>
            </p:nvSpPr>
            <p:spPr>
              <a:xfrm rot="1620600">
                <a:off x="1515960" y="4826520"/>
                <a:ext cx="2271240" cy="55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21"/>
              <p:cNvSpPr/>
              <p:nvPr/>
            </p:nvSpPr>
            <p:spPr>
              <a:xfrm rot="1620600">
                <a:off x="1491120" y="4876200"/>
                <a:ext cx="2271240" cy="550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22"/>
              <p:cNvSpPr/>
              <p:nvPr/>
            </p:nvSpPr>
            <p:spPr>
              <a:xfrm rot="1620600">
                <a:off x="1465560" y="4925520"/>
                <a:ext cx="2271240" cy="55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23"/>
              <p:cNvSpPr/>
              <p:nvPr/>
            </p:nvSpPr>
            <p:spPr>
              <a:xfrm rot="1620600">
                <a:off x="1440360" y="4974840"/>
                <a:ext cx="2271240" cy="5544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24"/>
              <p:cNvSpPr/>
              <p:nvPr/>
            </p:nvSpPr>
            <p:spPr>
              <a:xfrm rot="1620600">
                <a:off x="1415520" y="5024160"/>
                <a:ext cx="2271240" cy="550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25"/>
              <p:cNvSpPr/>
              <p:nvPr/>
            </p:nvSpPr>
            <p:spPr>
              <a:xfrm rot="1620600">
                <a:off x="1389960" y="5073480"/>
                <a:ext cx="2271240" cy="554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26"/>
              <p:cNvSpPr/>
              <p:nvPr/>
            </p:nvSpPr>
            <p:spPr>
              <a:xfrm rot="1620600">
                <a:off x="1364760" y="5123160"/>
                <a:ext cx="2271240" cy="55440"/>
              </a:xfrm>
              <a:prstGeom prst="rect">
                <a:avLst/>
              </a:pr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AutoShape 27"/>
            <p:cNvSpPr/>
            <p:nvPr/>
          </p:nvSpPr>
          <p:spPr>
            <a:xfrm rot="1620600">
              <a:off x="2799000" y="5132160"/>
              <a:ext cx="1476000" cy="720720"/>
            </a:xfrm>
            <a:prstGeom prst="rightArrow">
              <a:avLst>
                <a:gd name="adj1" fmla="val 55250"/>
                <a:gd name="adj2" fmla="val 1235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3ebf1"/>
                </a:solidFill>
                <a:latin typeface="Arial"/>
              </a:rPr>
              <a:t>Red light shining on White paper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red light shines on white paper the red light is refle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makes the paper look 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150920" y="6021360"/>
            <a:ext cx="68407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te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 rot="1809600">
            <a:off x="1979640" y="5013000"/>
            <a:ext cx="2592360" cy="287280"/>
          </a:xfrm>
          <a:prstGeom prst="rightArrow">
            <a:avLst>
              <a:gd name="adj1" fmla="val 50000"/>
              <a:gd name="adj2" fmla="val 22559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348000" y="2992320"/>
            <a:ext cx="4896000" cy="1656000"/>
          </a:xfrm>
          <a:prstGeom prst="cloudCallout">
            <a:avLst>
              <a:gd name="adj1" fmla="val 59370"/>
              <a:gd name="adj2" fmla="val 40125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diagram and description are correct.  Remove this speech bub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 rot="19911600">
            <a:off x="4571640" y="5013000"/>
            <a:ext cx="2592360" cy="287280"/>
          </a:xfrm>
          <a:prstGeom prst="rightArrow">
            <a:avLst>
              <a:gd name="adj1" fmla="val 50000"/>
              <a:gd name="adj2" fmla="val 22559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3ebf1"/>
                </a:solidFill>
                <a:latin typeface="Arial"/>
              </a:rPr>
              <a:t>Red light shining on Red paper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red light shines on red paper the red light is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flect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makes the object look 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914400" y="6021360"/>
            <a:ext cx="5869080" cy="28728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13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d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5"/>
          <p:cNvSpPr/>
          <p:nvPr/>
        </p:nvSpPr>
        <p:spPr>
          <a:xfrm rot="1809600">
            <a:off x="1066320" y="5084280"/>
            <a:ext cx="2592360" cy="287640"/>
          </a:xfrm>
          <a:prstGeom prst="rightArrow">
            <a:avLst>
              <a:gd name="adj1" fmla="val 50000"/>
              <a:gd name="adj2" fmla="val 22531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7"/>
          <p:cNvSpPr/>
          <p:nvPr/>
        </p:nvSpPr>
        <p:spPr>
          <a:xfrm rot="19911600">
            <a:off x="3658680" y="5084280"/>
            <a:ext cx="2592360" cy="287640"/>
          </a:xfrm>
          <a:prstGeom prst="rightArrow">
            <a:avLst>
              <a:gd name="adj1" fmla="val 50000"/>
              <a:gd name="adj2" fmla="val 22531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6"/>
          <p:cNvSpPr/>
          <p:nvPr/>
        </p:nvSpPr>
        <p:spPr>
          <a:xfrm>
            <a:off x="6008760" y="2590920"/>
            <a:ext cx="2982960" cy="2663640"/>
          </a:xfrm>
          <a:prstGeom prst="cloudCallout">
            <a:avLst>
              <a:gd name="adj1" fmla="val 47074"/>
              <a:gd name="adj2" fmla="val 7788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something wrong with the diagram.  Change it so that it matches the descri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3ebf1"/>
                </a:solidFill>
                <a:latin typeface="Arial"/>
              </a:rPr>
              <a:t>White light shining on Red paper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1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white light shines on red paper all of the colours except red are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bsorb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blue is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flect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so the object looks bl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150920" y="6021360"/>
            <a:ext cx="684072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d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5"/>
          <p:cNvGrpSpPr/>
          <p:nvPr/>
        </p:nvGrpSpPr>
        <p:grpSpPr>
          <a:xfrm>
            <a:off x="1560600" y="4193640"/>
            <a:ext cx="2846520" cy="1926720"/>
            <a:chOff x="1560600" y="4193640"/>
            <a:chExt cx="2846520" cy="1926720"/>
          </a:xfrm>
        </p:grpSpPr>
        <p:grpSp>
          <p:nvGrpSpPr>
            <p:cNvPr id="174" name="Group 6"/>
            <p:cNvGrpSpPr/>
            <p:nvPr/>
          </p:nvGrpSpPr>
          <p:grpSpPr>
            <a:xfrm>
              <a:off x="1560600" y="4193640"/>
              <a:ext cx="2171520" cy="1448280"/>
              <a:chOff x="1560600" y="4193640"/>
              <a:chExt cx="2171520" cy="1448280"/>
            </a:xfrm>
          </p:grpSpPr>
          <p:sp>
            <p:nvSpPr>
              <p:cNvPr id="175" name="Rectangle 7"/>
              <p:cNvSpPr/>
              <p:nvPr/>
            </p:nvSpPr>
            <p:spPr>
              <a:xfrm rot="1755000">
                <a:off x="1591920" y="4744800"/>
                <a:ext cx="2271240" cy="55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8"/>
              <p:cNvSpPr/>
              <p:nvPr/>
            </p:nvSpPr>
            <p:spPr>
              <a:xfrm rot="1755000">
                <a:off x="1564920" y="4793040"/>
                <a:ext cx="2271240" cy="550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"/>
              <p:cNvSpPr/>
              <p:nvPr/>
            </p:nvSpPr>
            <p:spPr>
              <a:xfrm rot="1755000">
                <a:off x="1537560" y="4841640"/>
                <a:ext cx="2271240" cy="55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0"/>
              <p:cNvSpPr/>
              <p:nvPr/>
            </p:nvSpPr>
            <p:spPr>
              <a:xfrm rot="1755000">
                <a:off x="1510560" y="4889880"/>
                <a:ext cx="2271240" cy="5544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1"/>
              <p:cNvSpPr/>
              <p:nvPr/>
            </p:nvSpPr>
            <p:spPr>
              <a:xfrm rot="1755000">
                <a:off x="1483560" y="4938120"/>
                <a:ext cx="2271240" cy="550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2"/>
              <p:cNvSpPr/>
              <p:nvPr/>
            </p:nvSpPr>
            <p:spPr>
              <a:xfrm rot="1755000">
                <a:off x="1456560" y="4986720"/>
                <a:ext cx="2271240" cy="554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3"/>
              <p:cNvSpPr/>
              <p:nvPr/>
            </p:nvSpPr>
            <p:spPr>
              <a:xfrm rot="1755000">
                <a:off x="1429200" y="5034960"/>
                <a:ext cx="2271240" cy="55440"/>
              </a:xfrm>
              <a:prstGeom prst="rect">
                <a:avLst/>
              </a:pr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AutoShape 14"/>
            <p:cNvSpPr/>
            <p:nvPr/>
          </p:nvSpPr>
          <p:spPr>
            <a:xfrm rot="1755000">
              <a:off x="2849040" y="5085000"/>
              <a:ext cx="1476000" cy="720720"/>
            </a:xfrm>
            <a:prstGeom prst="rightArrow">
              <a:avLst>
                <a:gd name="adj1" fmla="val 55250"/>
                <a:gd name="adj2" fmla="val 1235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AutoShape 15"/>
          <p:cNvSpPr/>
          <p:nvPr/>
        </p:nvSpPr>
        <p:spPr>
          <a:xfrm rot="20077200">
            <a:off x="4858920" y="5084640"/>
            <a:ext cx="2592360" cy="287640"/>
          </a:xfrm>
          <a:prstGeom prst="rightArrow">
            <a:avLst>
              <a:gd name="adj1" fmla="val 50000"/>
              <a:gd name="adj2" fmla="val 22531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6"/>
          <p:cNvSpPr/>
          <p:nvPr/>
        </p:nvSpPr>
        <p:spPr>
          <a:xfrm>
            <a:off x="4267080" y="3048120"/>
            <a:ext cx="3962520" cy="1728720"/>
          </a:xfrm>
          <a:prstGeom prst="cloudCallout">
            <a:avLst>
              <a:gd name="adj1" fmla="val 66865"/>
              <a:gd name="adj2" fmla="val 5945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ere i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2 places.  Change it so that it matches the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60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3ebf1"/>
                </a:solidFill>
                <a:latin typeface="Arial"/>
              </a:rPr>
              <a:t>Red light shining on Blue paper.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red light shines on blue paper the red light is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bsorb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 light is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flect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so the paper looks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black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150920" y="6021360"/>
            <a:ext cx="6840720" cy="142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 rot="1822200">
            <a:off x="1979280" y="5084640"/>
            <a:ext cx="2592360" cy="287640"/>
          </a:xfrm>
          <a:prstGeom prst="rightArrow">
            <a:avLst>
              <a:gd name="adj1" fmla="val 50000"/>
              <a:gd name="adj2" fmla="val 22531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3780000" y="2895480"/>
            <a:ext cx="3389040" cy="1963800"/>
          </a:xfrm>
          <a:prstGeom prst="cloudCallout">
            <a:avLst>
              <a:gd name="adj1" fmla="val 88060"/>
              <a:gd name="adj2" fmla="val 4401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iagram has a mistake.  Change it so that it matches the descri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 rot="19911600">
            <a:off x="4571640" y="5084280"/>
            <a:ext cx="2592360" cy="287640"/>
          </a:xfrm>
          <a:prstGeom prst="rightArrow">
            <a:avLst>
              <a:gd name="adj1" fmla="val 50000"/>
              <a:gd name="adj2" fmla="val 22531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1150920" y="6021360"/>
            <a:ext cx="6840720" cy="360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lue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60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3ebf1"/>
                </a:solidFill>
                <a:latin typeface="Arial"/>
              </a:rPr>
              <a:t>Blue light shining on Green paper.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blue light shines on green paper the blue light is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bsorb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 light is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flect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so the paper looks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black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150920" y="6021360"/>
            <a:ext cx="6840720" cy="142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 rot="12646800">
            <a:off x="1979280" y="5083920"/>
            <a:ext cx="2592360" cy="287640"/>
          </a:xfrm>
          <a:prstGeom prst="rightArrow">
            <a:avLst>
              <a:gd name="adj1" fmla="val 50000"/>
              <a:gd name="adj2" fmla="val 22531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3419640" y="2895480"/>
            <a:ext cx="3821040" cy="1963800"/>
          </a:xfrm>
          <a:prstGeom prst="cloudCallout">
            <a:avLst>
              <a:gd name="adj1" fmla="val 88060"/>
              <a:gd name="adj2" fmla="val 4401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iagram has two mistakes.  Change it so that it matches the descri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 rot="19911600">
            <a:off x="4571640" y="5084280"/>
            <a:ext cx="2592360" cy="287640"/>
          </a:xfrm>
          <a:prstGeom prst="rightArrow">
            <a:avLst>
              <a:gd name="adj1" fmla="val 50000"/>
              <a:gd name="adj2" fmla="val 22531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1150920" y="6021360"/>
            <a:ext cx="6840720" cy="360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en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3ebf1"/>
                </a:solidFill>
                <a:latin typeface="Arial"/>
              </a:rPr>
              <a:t>White light shining on Blue paper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white light shines on blue paper all of the colours except blue are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bsorb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blue is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flected, an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so the paper looks bl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150920" y="6021360"/>
            <a:ext cx="6840720" cy="3603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ue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5"/>
          <p:cNvGrpSpPr/>
          <p:nvPr/>
        </p:nvGrpSpPr>
        <p:grpSpPr>
          <a:xfrm>
            <a:off x="4822200" y="4253400"/>
            <a:ext cx="2726280" cy="1566360"/>
            <a:chOff x="4822200" y="4253400"/>
            <a:chExt cx="2726280" cy="1566360"/>
          </a:xfrm>
        </p:grpSpPr>
        <p:grpSp>
          <p:nvGrpSpPr>
            <p:cNvPr id="203" name="Group 6"/>
            <p:cNvGrpSpPr/>
            <p:nvPr/>
          </p:nvGrpSpPr>
          <p:grpSpPr>
            <a:xfrm>
              <a:off x="4822200" y="4649760"/>
              <a:ext cx="2082240" cy="1170000"/>
              <a:chOff x="4822200" y="4649760"/>
              <a:chExt cx="2082240" cy="1170000"/>
            </a:xfrm>
          </p:grpSpPr>
          <p:sp>
            <p:nvSpPr>
              <p:cNvPr id="204" name="Rectangle 7"/>
              <p:cNvSpPr/>
              <p:nvPr/>
            </p:nvSpPr>
            <p:spPr>
              <a:xfrm rot="20232000">
                <a:off x="4750920" y="5053680"/>
                <a:ext cx="2095560" cy="55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8"/>
              <p:cNvSpPr/>
              <p:nvPr/>
            </p:nvSpPr>
            <p:spPr>
              <a:xfrm rot="20232000">
                <a:off x="4772520" y="5104800"/>
                <a:ext cx="2095560" cy="550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"/>
              <p:cNvSpPr/>
              <p:nvPr/>
            </p:nvSpPr>
            <p:spPr>
              <a:xfrm rot="20232000">
                <a:off x="4794120" y="5155920"/>
                <a:ext cx="2095560" cy="55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0"/>
              <p:cNvSpPr/>
              <p:nvPr/>
            </p:nvSpPr>
            <p:spPr>
              <a:xfrm rot="20232000">
                <a:off x="4815360" y="5207040"/>
                <a:ext cx="2095560" cy="5544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1"/>
              <p:cNvSpPr/>
              <p:nvPr/>
            </p:nvSpPr>
            <p:spPr>
              <a:xfrm rot="20232000">
                <a:off x="4836960" y="5258160"/>
                <a:ext cx="2095560" cy="550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2"/>
              <p:cNvSpPr/>
              <p:nvPr/>
            </p:nvSpPr>
            <p:spPr>
              <a:xfrm rot="20232000">
                <a:off x="4858560" y="5309280"/>
                <a:ext cx="2095560" cy="554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3"/>
              <p:cNvSpPr/>
              <p:nvPr/>
            </p:nvSpPr>
            <p:spPr>
              <a:xfrm rot="20232000">
                <a:off x="4879800" y="5360400"/>
                <a:ext cx="2095560" cy="55440"/>
              </a:xfrm>
              <a:prstGeom prst="rect">
                <a:avLst/>
              </a:pr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AutoShape 14"/>
            <p:cNvSpPr/>
            <p:nvPr/>
          </p:nvSpPr>
          <p:spPr>
            <a:xfrm rot="20232000">
              <a:off x="6100200" y="4488840"/>
              <a:ext cx="1361880" cy="720720"/>
            </a:xfrm>
            <a:prstGeom prst="rightArrow">
              <a:avLst>
                <a:gd name="adj1" fmla="val 55250"/>
                <a:gd name="adj2" fmla="val 1139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AutoShape 15"/>
          <p:cNvSpPr/>
          <p:nvPr/>
        </p:nvSpPr>
        <p:spPr>
          <a:xfrm rot="1966800">
            <a:off x="1692000" y="4941360"/>
            <a:ext cx="2592360" cy="287640"/>
          </a:xfrm>
          <a:prstGeom prst="rightArrow">
            <a:avLst>
              <a:gd name="adj1" fmla="val 50000"/>
              <a:gd name="adj2" fmla="val 22531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6"/>
          <p:cNvSpPr/>
          <p:nvPr/>
        </p:nvSpPr>
        <p:spPr>
          <a:xfrm>
            <a:off x="3276720" y="3068640"/>
            <a:ext cx="5040360" cy="1728720"/>
          </a:xfrm>
          <a:prstGeom prst="cloudCallout">
            <a:avLst>
              <a:gd name="adj1" fmla="val 57652"/>
              <a:gd name="adj2" fmla="val 2382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scription here is correct but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agra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  Change it so that it matches the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3ebf1"/>
                </a:solidFill>
                <a:latin typeface="Arial"/>
              </a:rPr>
              <a:t>White light shining on Green paper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white light shines on green paper, all of the colours except green are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bsorb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ed is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flect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so the object looks bl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838080" y="5869080"/>
            <a:ext cx="6840720" cy="360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en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5"/>
          <p:cNvGrpSpPr/>
          <p:nvPr/>
        </p:nvGrpSpPr>
        <p:grpSpPr>
          <a:xfrm>
            <a:off x="3598920" y="3899520"/>
            <a:ext cx="2849040" cy="1920600"/>
            <a:chOff x="3598920" y="3899520"/>
            <a:chExt cx="2849040" cy="1920600"/>
          </a:xfrm>
        </p:grpSpPr>
        <p:grpSp>
          <p:nvGrpSpPr>
            <p:cNvPr id="218" name="Group 6"/>
            <p:cNvGrpSpPr/>
            <p:nvPr/>
          </p:nvGrpSpPr>
          <p:grpSpPr>
            <a:xfrm>
              <a:off x="3598920" y="4375800"/>
              <a:ext cx="2172960" cy="1444320"/>
              <a:chOff x="3598920" y="4375800"/>
              <a:chExt cx="2172960" cy="1444320"/>
            </a:xfrm>
          </p:grpSpPr>
          <p:sp>
            <p:nvSpPr>
              <p:cNvPr id="219" name="Rectangle 7"/>
              <p:cNvSpPr/>
              <p:nvPr/>
            </p:nvSpPr>
            <p:spPr>
              <a:xfrm rot="19852800">
                <a:off x="3468600" y="4924800"/>
                <a:ext cx="2271240" cy="55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8"/>
              <p:cNvSpPr/>
              <p:nvPr/>
            </p:nvSpPr>
            <p:spPr>
              <a:xfrm rot="19852800">
                <a:off x="3495600" y="4973400"/>
                <a:ext cx="2271240" cy="550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9"/>
              <p:cNvSpPr/>
              <p:nvPr/>
            </p:nvSpPr>
            <p:spPr>
              <a:xfrm rot="19852800">
                <a:off x="3522240" y="5021640"/>
                <a:ext cx="2271240" cy="55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10"/>
              <p:cNvSpPr/>
              <p:nvPr/>
            </p:nvSpPr>
            <p:spPr>
              <a:xfrm rot="19852800">
                <a:off x="3549240" y="5070240"/>
                <a:ext cx="2271240" cy="5544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11"/>
              <p:cNvSpPr/>
              <p:nvPr/>
            </p:nvSpPr>
            <p:spPr>
              <a:xfrm rot="19852800">
                <a:off x="3576240" y="5118480"/>
                <a:ext cx="2271240" cy="550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12"/>
              <p:cNvSpPr/>
              <p:nvPr/>
            </p:nvSpPr>
            <p:spPr>
              <a:xfrm rot="19852800">
                <a:off x="3603240" y="5167080"/>
                <a:ext cx="2271240" cy="554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13"/>
              <p:cNvSpPr/>
              <p:nvPr/>
            </p:nvSpPr>
            <p:spPr>
              <a:xfrm rot="19852800">
                <a:off x="3630240" y="5215320"/>
                <a:ext cx="2271240" cy="55440"/>
              </a:xfrm>
              <a:prstGeom prst="rect">
                <a:avLst/>
              </a:pr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AutoShape 14"/>
            <p:cNvSpPr/>
            <p:nvPr/>
          </p:nvSpPr>
          <p:spPr>
            <a:xfrm rot="19852800">
              <a:off x="4889880" y="4212720"/>
              <a:ext cx="1476000" cy="720720"/>
            </a:xfrm>
            <a:prstGeom prst="rightArrow">
              <a:avLst>
                <a:gd name="adj1" fmla="val 55250"/>
                <a:gd name="adj2" fmla="val 1235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AutoShape 15"/>
          <p:cNvSpPr/>
          <p:nvPr/>
        </p:nvSpPr>
        <p:spPr>
          <a:xfrm rot="12800400">
            <a:off x="913680" y="4789080"/>
            <a:ext cx="2592360" cy="287280"/>
          </a:xfrm>
          <a:prstGeom prst="rightArrow">
            <a:avLst>
              <a:gd name="adj1" fmla="val 50000"/>
              <a:gd name="adj2" fmla="val 225595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6"/>
          <p:cNvSpPr/>
          <p:nvPr/>
        </p:nvSpPr>
        <p:spPr>
          <a:xfrm>
            <a:off x="6019920" y="3352680"/>
            <a:ext cx="3124080" cy="2016360"/>
          </a:xfrm>
          <a:prstGeom prst="cloudCallout">
            <a:avLst>
              <a:gd name="adj1" fmla="val 46037"/>
              <a:gd name="adj2" fmla="val 7944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description and the diagram are wrong.  Change them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ebf1"/>
                </a:solidFill>
                <a:latin typeface="Arial"/>
              </a:rPr>
              <a:t>Reflection and a Fil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5334120" y="2209680"/>
            <a:ext cx="3557520" cy="3353040"/>
          </a:xfrm>
          <a:prstGeom prst="cloudCallout">
            <a:avLst>
              <a:gd name="adj1" fmla="val 54060"/>
              <a:gd name="adj2" fmla="val 5733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these pieces to show what happens when white light shines on white paper and then passes through a red fil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6"/>
          <p:cNvGrpSpPr/>
          <p:nvPr/>
        </p:nvGrpSpPr>
        <p:grpSpPr>
          <a:xfrm>
            <a:off x="1140840" y="3681360"/>
            <a:ext cx="2838960" cy="1945080"/>
            <a:chOff x="1140840" y="3681360"/>
            <a:chExt cx="2838960" cy="1945080"/>
          </a:xfrm>
        </p:grpSpPr>
        <p:grpSp>
          <p:nvGrpSpPr>
            <p:cNvPr id="232" name="Group 7"/>
            <p:cNvGrpSpPr/>
            <p:nvPr/>
          </p:nvGrpSpPr>
          <p:grpSpPr>
            <a:xfrm>
              <a:off x="1140840" y="4163040"/>
              <a:ext cx="2164680" cy="1463400"/>
              <a:chOff x="1140840" y="4163040"/>
              <a:chExt cx="2164680" cy="1463400"/>
            </a:xfrm>
          </p:grpSpPr>
          <p:sp>
            <p:nvSpPr>
              <p:cNvPr id="233" name="Rectangle 8"/>
              <p:cNvSpPr/>
              <p:nvPr/>
            </p:nvSpPr>
            <p:spPr>
              <a:xfrm rot="19816800">
                <a:off x="1005120" y="4722120"/>
                <a:ext cx="2271240" cy="55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9"/>
              <p:cNvSpPr/>
              <p:nvPr/>
            </p:nvSpPr>
            <p:spPr>
              <a:xfrm rot="19816800">
                <a:off x="1032120" y="4770720"/>
                <a:ext cx="2271240" cy="550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0"/>
              <p:cNvSpPr/>
              <p:nvPr/>
            </p:nvSpPr>
            <p:spPr>
              <a:xfrm rot="19816800">
                <a:off x="1059840" y="4818600"/>
                <a:ext cx="2271240" cy="55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1"/>
              <p:cNvSpPr/>
              <p:nvPr/>
            </p:nvSpPr>
            <p:spPr>
              <a:xfrm rot="19816800">
                <a:off x="1087560" y="4866480"/>
                <a:ext cx="2271240" cy="5544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 rot="19816800">
                <a:off x="1114560" y="4915080"/>
                <a:ext cx="2271240" cy="550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 rot="19816800">
                <a:off x="1142280" y="4962960"/>
                <a:ext cx="2271240" cy="554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14"/>
              <p:cNvSpPr/>
              <p:nvPr/>
            </p:nvSpPr>
            <p:spPr>
              <a:xfrm rot="19816800">
                <a:off x="1170000" y="5011200"/>
                <a:ext cx="2271240" cy="55440"/>
              </a:xfrm>
              <a:prstGeom prst="rect">
                <a:avLst/>
              </a:pr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AutoShape 15"/>
            <p:cNvSpPr/>
            <p:nvPr/>
          </p:nvSpPr>
          <p:spPr>
            <a:xfrm rot="19816800">
              <a:off x="2422080" y="3999960"/>
              <a:ext cx="1476000" cy="720720"/>
            </a:xfrm>
            <a:prstGeom prst="rightArrow">
              <a:avLst>
                <a:gd name="adj1" fmla="val 55250"/>
                <a:gd name="adj2" fmla="val 1235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16"/>
          <p:cNvSpPr/>
          <p:nvPr/>
        </p:nvSpPr>
        <p:spPr>
          <a:xfrm>
            <a:off x="250920" y="6021360"/>
            <a:ext cx="856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te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7"/>
          <p:cNvGrpSpPr/>
          <p:nvPr/>
        </p:nvGrpSpPr>
        <p:grpSpPr>
          <a:xfrm>
            <a:off x="684360" y="2224800"/>
            <a:ext cx="2882160" cy="1835280"/>
            <a:chOff x="684360" y="2224800"/>
            <a:chExt cx="2882160" cy="1835280"/>
          </a:xfrm>
        </p:grpSpPr>
        <p:grpSp>
          <p:nvGrpSpPr>
            <p:cNvPr id="243" name="Group 18"/>
            <p:cNvGrpSpPr/>
            <p:nvPr/>
          </p:nvGrpSpPr>
          <p:grpSpPr>
            <a:xfrm>
              <a:off x="684360" y="2224800"/>
              <a:ext cx="2199960" cy="1377360"/>
              <a:chOff x="684360" y="2224800"/>
              <a:chExt cx="2199960" cy="1377360"/>
            </a:xfrm>
          </p:grpSpPr>
          <p:sp>
            <p:nvSpPr>
              <p:cNvPr id="244" name="Rectangle 19"/>
              <p:cNvSpPr/>
              <p:nvPr/>
            </p:nvSpPr>
            <p:spPr>
              <a:xfrm rot="1620600">
                <a:off x="723960" y="2737440"/>
                <a:ext cx="2271240" cy="55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20"/>
              <p:cNvSpPr/>
              <p:nvPr/>
            </p:nvSpPr>
            <p:spPr>
              <a:xfrm rot="1620600">
                <a:off x="699120" y="2787120"/>
                <a:ext cx="2271240" cy="550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21"/>
              <p:cNvSpPr/>
              <p:nvPr/>
            </p:nvSpPr>
            <p:spPr>
              <a:xfrm rot="1620600">
                <a:off x="673560" y="2836440"/>
                <a:ext cx="2271240" cy="55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22"/>
              <p:cNvSpPr/>
              <p:nvPr/>
            </p:nvSpPr>
            <p:spPr>
              <a:xfrm rot="1620600">
                <a:off x="648360" y="2885760"/>
                <a:ext cx="2271240" cy="5544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23"/>
              <p:cNvSpPr/>
              <p:nvPr/>
            </p:nvSpPr>
            <p:spPr>
              <a:xfrm rot="1620600">
                <a:off x="623520" y="2935080"/>
                <a:ext cx="2271240" cy="550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24"/>
              <p:cNvSpPr/>
              <p:nvPr/>
            </p:nvSpPr>
            <p:spPr>
              <a:xfrm rot="1620600">
                <a:off x="597960" y="2984400"/>
                <a:ext cx="2271240" cy="554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25"/>
              <p:cNvSpPr/>
              <p:nvPr/>
            </p:nvSpPr>
            <p:spPr>
              <a:xfrm rot="1620600">
                <a:off x="572760" y="3034080"/>
                <a:ext cx="2271240" cy="55440"/>
              </a:xfrm>
              <a:prstGeom prst="rect">
                <a:avLst/>
              </a:pr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AutoShape 26"/>
            <p:cNvSpPr/>
            <p:nvPr/>
          </p:nvSpPr>
          <p:spPr>
            <a:xfrm rot="1620600">
              <a:off x="2007000" y="3043080"/>
              <a:ext cx="1476000" cy="720720"/>
            </a:xfrm>
            <a:prstGeom prst="rightArrow">
              <a:avLst>
                <a:gd name="adj1" fmla="val 55250"/>
                <a:gd name="adj2" fmla="val 1235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28"/>
          <p:cNvSpPr/>
          <p:nvPr/>
        </p:nvSpPr>
        <p:spPr>
          <a:xfrm rot="19583400">
            <a:off x="4211280" y="2455920"/>
            <a:ext cx="360360" cy="19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d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9"/>
          <p:cNvSpPr/>
          <p:nvPr/>
        </p:nvSpPr>
        <p:spPr>
          <a:xfrm rot="19635600">
            <a:off x="3733560" y="4952520"/>
            <a:ext cx="1296720" cy="287280"/>
          </a:xfrm>
          <a:prstGeom prst="rightArrow">
            <a:avLst>
              <a:gd name="adj1" fmla="val 50000"/>
              <a:gd name="adj2" fmla="val 11284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Instruc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ign a series of slides to show what happens when light passes through filters, or reflects off surfa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of the information and graphics you need are included on the sl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need to put the pieces together and explain what is happening.  Sometimes you will have to change the colour, or the direction, of the arr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n’t worry too much about accurate angles of incidence and reflection on this occasion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ebf1"/>
                </a:solidFill>
                <a:latin typeface="Arial"/>
              </a:rPr>
              <a:t>Reflection and a Filter - 2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5364000" y="2637000"/>
            <a:ext cx="3529080" cy="3001680"/>
          </a:xfrm>
          <a:prstGeom prst="cloudCallout">
            <a:avLst>
              <a:gd name="adj1" fmla="val 45680"/>
              <a:gd name="adj2" fmla="val 2287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these pieces to show what happens when white light shines on green paper and then through a red fil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250920" y="6021360"/>
            <a:ext cx="8569080" cy="360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en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5"/>
          <p:cNvGrpSpPr/>
          <p:nvPr/>
        </p:nvGrpSpPr>
        <p:grpSpPr>
          <a:xfrm>
            <a:off x="2460960" y="3668040"/>
            <a:ext cx="2701440" cy="2204280"/>
            <a:chOff x="2460960" y="3668040"/>
            <a:chExt cx="2701440" cy="2204280"/>
          </a:xfrm>
        </p:grpSpPr>
        <p:grpSp>
          <p:nvGrpSpPr>
            <p:cNvPr id="258" name="Group 16"/>
            <p:cNvGrpSpPr/>
            <p:nvPr/>
          </p:nvGrpSpPr>
          <p:grpSpPr>
            <a:xfrm>
              <a:off x="2460960" y="3668040"/>
              <a:ext cx="2055960" cy="1665000"/>
              <a:chOff x="2460960" y="3668040"/>
              <a:chExt cx="2055960" cy="1665000"/>
            </a:xfrm>
          </p:grpSpPr>
          <p:sp>
            <p:nvSpPr>
              <p:cNvPr id="259" name="Rectangle 17"/>
              <p:cNvSpPr/>
              <p:nvPr/>
            </p:nvSpPr>
            <p:spPr>
              <a:xfrm rot="2193600">
                <a:off x="2452320" y="4338720"/>
                <a:ext cx="2271240" cy="55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8"/>
              <p:cNvSpPr/>
              <p:nvPr/>
            </p:nvSpPr>
            <p:spPr>
              <a:xfrm rot="2193600">
                <a:off x="2419200" y="4383360"/>
                <a:ext cx="2271240" cy="550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9"/>
              <p:cNvSpPr/>
              <p:nvPr/>
            </p:nvSpPr>
            <p:spPr>
              <a:xfrm rot="2193600">
                <a:off x="2386080" y="4428000"/>
                <a:ext cx="2271240" cy="55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0"/>
              <p:cNvSpPr/>
              <p:nvPr/>
            </p:nvSpPr>
            <p:spPr>
              <a:xfrm rot="2193600">
                <a:off x="2352960" y="4472640"/>
                <a:ext cx="2271240" cy="5544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1"/>
              <p:cNvSpPr/>
              <p:nvPr/>
            </p:nvSpPr>
            <p:spPr>
              <a:xfrm rot="2193600">
                <a:off x="2320200" y="4516920"/>
                <a:ext cx="2271240" cy="550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22"/>
              <p:cNvSpPr/>
              <p:nvPr/>
            </p:nvSpPr>
            <p:spPr>
              <a:xfrm rot="2193600">
                <a:off x="2287080" y="4561560"/>
                <a:ext cx="2271240" cy="554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23"/>
              <p:cNvSpPr/>
              <p:nvPr/>
            </p:nvSpPr>
            <p:spPr>
              <a:xfrm rot="2193600">
                <a:off x="2253960" y="4606200"/>
                <a:ext cx="2271240" cy="55440"/>
              </a:xfrm>
              <a:prstGeom prst="rect">
                <a:avLst/>
              </a:pr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AutoShape 24"/>
            <p:cNvSpPr/>
            <p:nvPr/>
          </p:nvSpPr>
          <p:spPr>
            <a:xfrm rot="2193600">
              <a:off x="3616920" y="4782960"/>
              <a:ext cx="1476000" cy="720720"/>
            </a:xfrm>
            <a:prstGeom prst="rightArrow">
              <a:avLst>
                <a:gd name="adj1" fmla="val 55250"/>
                <a:gd name="adj2" fmla="val 1235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ectangle 25"/>
          <p:cNvSpPr/>
          <p:nvPr/>
        </p:nvSpPr>
        <p:spPr>
          <a:xfrm rot="18900000">
            <a:off x="4211640" y="2455560"/>
            <a:ext cx="360360" cy="19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d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6"/>
          <p:cNvSpPr/>
          <p:nvPr/>
        </p:nvSpPr>
        <p:spPr>
          <a:xfrm rot="19369800">
            <a:off x="4723920" y="1980720"/>
            <a:ext cx="2592360" cy="287280"/>
          </a:xfrm>
          <a:prstGeom prst="rightArrow">
            <a:avLst>
              <a:gd name="adj1" fmla="val 50000"/>
              <a:gd name="adj2" fmla="val 225595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7"/>
          <p:cNvSpPr/>
          <p:nvPr/>
        </p:nvSpPr>
        <p:spPr>
          <a:xfrm rot="19224000">
            <a:off x="1752480" y="3047760"/>
            <a:ext cx="1368720" cy="215640"/>
          </a:xfrm>
          <a:prstGeom prst="rightArrow">
            <a:avLst>
              <a:gd name="adj1" fmla="val 50000"/>
              <a:gd name="adj2" fmla="val 158681"/>
            </a:avLst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2"/>
          <p:cNvSpPr/>
          <p:nvPr/>
        </p:nvSpPr>
        <p:spPr>
          <a:xfrm>
            <a:off x="1619280" y="1268280"/>
            <a:ext cx="547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e GCSE Physics for You (5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d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ge 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www.physics4u.co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1619280" y="1268280"/>
            <a:ext cx="547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e GCSE Physics for You (5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d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ges 224-2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www.physics4u.co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ebf1"/>
                </a:solidFill>
                <a:latin typeface="Arial"/>
              </a:rPr>
              <a:t>White light and a Red fil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ite light is made up of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of the colours of the spectr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white light passes through a red filter all of the colours are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bsorb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xcept 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ed light passes through the fil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900000" y="4508640"/>
            <a:ext cx="2952360" cy="720720"/>
            <a:chOff x="900000" y="4508640"/>
            <a:chExt cx="2952360" cy="720720"/>
          </a:xfrm>
        </p:grpSpPr>
        <p:grpSp>
          <p:nvGrpSpPr>
            <p:cNvPr id="49" name="Group 5"/>
            <p:cNvGrpSpPr/>
            <p:nvPr/>
          </p:nvGrpSpPr>
          <p:grpSpPr>
            <a:xfrm>
              <a:off x="900000" y="4674600"/>
              <a:ext cx="2271240" cy="388080"/>
              <a:chOff x="900000" y="4674600"/>
              <a:chExt cx="2271240" cy="388080"/>
            </a:xfrm>
          </p:grpSpPr>
          <p:sp>
            <p:nvSpPr>
              <p:cNvPr id="50" name="Rectangle 6"/>
              <p:cNvSpPr/>
              <p:nvPr/>
            </p:nvSpPr>
            <p:spPr>
              <a:xfrm>
                <a:off x="900000" y="4674600"/>
                <a:ext cx="2271240" cy="55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7"/>
              <p:cNvSpPr/>
              <p:nvPr/>
            </p:nvSpPr>
            <p:spPr>
              <a:xfrm>
                <a:off x="900000" y="4730040"/>
                <a:ext cx="2271240" cy="550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8"/>
              <p:cNvSpPr/>
              <p:nvPr/>
            </p:nvSpPr>
            <p:spPr>
              <a:xfrm>
                <a:off x="900000" y="4785480"/>
                <a:ext cx="2271240" cy="55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9"/>
              <p:cNvSpPr/>
              <p:nvPr/>
            </p:nvSpPr>
            <p:spPr>
              <a:xfrm>
                <a:off x="900000" y="4840920"/>
                <a:ext cx="2271240" cy="5544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0"/>
              <p:cNvSpPr/>
              <p:nvPr/>
            </p:nvSpPr>
            <p:spPr>
              <a:xfrm>
                <a:off x="900000" y="4896360"/>
                <a:ext cx="2271240" cy="550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11"/>
              <p:cNvSpPr/>
              <p:nvPr/>
            </p:nvSpPr>
            <p:spPr>
              <a:xfrm>
                <a:off x="900000" y="4951800"/>
                <a:ext cx="2271240" cy="554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12"/>
              <p:cNvSpPr/>
              <p:nvPr/>
            </p:nvSpPr>
            <p:spPr>
              <a:xfrm>
                <a:off x="900000" y="5007240"/>
                <a:ext cx="2271240" cy="55440"/>
              </a:xfrm>
              <a:prstGeom prst="rect">
                <a:avLst/>
              </a:pr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AutoShape 13"/>
            <p:cNvSpPr/>
            <p:nvPr/>
          </p:nvSpPr>
          <p:spPr>
            <a:xfrm>
              <a:off x="2376360" y="4508640"/>
              <a:ext cx="1476000" cy="720720"/>
            </a:xfrm>
            <a:prstGeom prst="rightArrow">
              <a:avLst>
                <a:gd name="adj1" fmla="val 55250"/>
                <a:gd name="adj2" fmla="val 1235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14"/>
          <p:cNvSpPr/>
          <p:nvPr/>
        </p:nvSpPr>
        <p:spPr>
          <a:xfrm>
            <a:off x="4211640" y="4221000"/>
            <a:ext cx="360360" cy="215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d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5"/>
          <p:cNvSpPr/>
          <p:nvPr/>
        </p:nvSpPr>
        <p:spPr>
          <a:xfrm>
            <a:off x="4859280" y="4724280"/>
            <a:ext cx="2592360" cy="287280"/>
          </a:xfrm>
          <a:prstGeom prst="rightArrow">
            <a:avLst>
              <a:gd name="adj1" fmla="val 50000"/>
              <a:gd name="adj2" fmla="val 22559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5105520" y="5181480"/>
            <a:ext cx="3062160" cy="1216080"/>
          </a:xfrm>
          <a:prstGeom prst="cloudCallout">
            <a:avLst>
              <a:gd name="adj1" fmla="val 72342"/>
              <a:gd name="adj2" fmla="val 6462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all correct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delete this bub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ebf1"/>
                </a:solidFill>
                <a:latin typeface="Arial"/>
              </a:rPr>
              <a:t>White light and a Blue fil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white light passes through a blue filter all of the colours are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bsorb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xcept b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blue light passes through the fil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Group 4"/>
          <p:cNvGrpSpPr/>
          <p:nvPr/>
        </p:nvGrpSpPr>
        <p:grpSpPr>
          <a:xfrm>
            <a:off x="900000" y="4257720"/>
            <a:ext cx="2952360" cy="720720"/>
            <a:chOff x="900000" y="4257720"/>
            <a:chExt cx="2952360" cy="720720"/>
          </a:xfrm>
        </p:grpSpPr>
        <p:grpSp>
          <p:nvGrpSpPr>
            <p:cNvPr id="64" name="Group 5"/>
            <p:cNvGrpSpPr/>
            <p:nvPr/>
          </p:nvGrpSpPr>
          <p:grpSpPr>
            <a:xfrm>
              <a:off x="900000" y="4423680"/>
              <a:ext cx="2271240" cy="388080"/>
              <a:chOff x="900000" y="4423680"/>
              <a:chExt cx="2271240" cy="38808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900000" y="4423680"/>
                <a:ext cx="2271240" cy="55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900000" y="4479120"/>
                <a:ext cx="2271240" cy="550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900000" y="4534560"/>
                <a:ext cx="2271240" cy="55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900000" y="4590000"/>
                <a:ext cx="2271240" cy="5544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900000" y="4645440"/>
                <a:ext cx="2271240" cy="550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900000" y="4700880"/>
                <a:ext cx="2271240" cy="554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900000" y="4756320"/>
                <a:ext cx="2271240" cy="55440"/>
              </a:xfrm>
              <a:prstGeom prst="rect">
                <a:avLst/>
              </a:pr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AutoShape 13"/>
            <p:cNvSpPr/>
            <p:nvPr/>
          </p:nvSpPr>
          <p:spPr>
            <a:xfrm>
              <a:off x="2376360" y="4257720"/>
              <a:ext cx="1476000" cy="720720"/>
            </a:xfrm>
            <a:prstGeom prst="rightArrow">
              <a:avLst>
                <a:gd name="adj1" fmla="val 55250"/>
                <a:gd name="adj2" fmla="val 1235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14"/>
          <p:cNvSpPr/>
          <p:nvPr/>
        </p:nvSpPr>
        <p:spPr>
          <a:xfrm>
            <a:off x="4211640" y="3573360"/>
            <a:ext cx="360360" cy="2698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5"/>
          <p:cNvSpPr/>
          <p:nvPr/>
        </p:nvSpPr>
        <p:spPr>
          <a:xfrm>
            <a:off x="4788000" y="4114800"/>
            <a:ext cx="2592360" cy="287280"/>
          </a:xfrm>
          <a:prstGeom prst="rightArrow">
            <a:avLst>
              <a:gd name="adj1" fmla="val 50000"/>
              <a:gd name="adj2" fmla="val 22559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4788000" y="4818240"/>
            <a:ext cx="2592360" cy="287280"/>
          </a:xfrm>
          <a:prstGeom prst="rightArrow">
            <a:avLst>
              <a:gd name="adj1" fmla="val 50000"/>
              <a:gd name="adj2" fmla="val 225595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7"/>
          <p:cNvSpPr/>
          <p:nvPr/>
        </p:nvSpPr>
        <p:spPr>
          <a:xfrm>
            <a:off x="4788000" y="4473720"/>
            <a:ext cx="2592360" cy="287280"/>
          </a:xfrm>
          <a:prstGeom prst="rightArrow">
            <a:avLst>
              <a:gd name="adj1" fmla="val 50000"/>
              <a:gd name="adj2" fmla="val 225595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8"/>
          <p:cNvSpPr/>
          <p:nvPr/>
        </p:nvSpPr>
        <p:spPr>
          <a:xfrm>
            <a:off x="179280" y="5445000"/>
            <a:ext cx="3888000" cy="1008360"/>
          </a:xfrm>
          <a:prstGeom prst="cloudCallout">
            <a:avLst>
              <a:gd name="adj1" fmla="val -49439"/>
              <a:gd name="adj2" fmla="val 70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iagram here is wrong.  Correc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ebf1"/>
                </a:solidFill>
                <a:latin typeface="Arial"/>
              </a:rPr>
              <a:t>White light and a Green fil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white light passes through a green filter all of the colours are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flect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xcept 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ed light passes through the fil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900000" y="4343400"/>
            <a:ext cx="2952360" cy="720720"/>
            <a:chOff x="900000" y="4343400"/>
            <a:chExt cx="2952360" cy="720720"/>
          </a:xfrm>
        </p:grpSpPr>
        <p:grpSp>
          <p:nvGrpSpPr>
            <p:cNvPr id="81" name="Group 5"/>
            <p:cNvGrpSpPr/>
            <p:nvPr/>
          </p:nvGrpSpPr>
          <p:grpSpPr>
            <a:xfrm>
              <a:off x="900000" y="4509360"/>
              <a:ext cx="2271240" cy="388080"/>
              <a:chOff x="900000" y="4509360"/>
              <a:chExt cx="2271240" cy="388080"/>
            </a:xfrm>
          </p:grpSpPr>
          <p:sp>
            <p:nvSpPr>
              <p:cNvPr id="82" name="Rectangle 6"/>
              <p:cNvSpPr/>
              <p:nvPr/>
            </p:nvSpPr>
            <p:spPr>
              <a:xfrm>
                <a:off x="900000" y="4509360"/>
                <a:ext cx="2271240" cy="55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7"/>
              <p:cNvSpPr/>
              <p:nvPr/>
            </p:nvSpPr>
            <p:spPr>
              <a:xfrm>
                <a:off x="900000" y="4564800"/>
                <a:ext cx="2271240" cy="550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8"/>
              <p:cNvSpPr/>
              <p:nvPr/>
            </p:nvSpPr>
            <p:spPr>
              <a:xfrm>
                <a:off x="900000" y="4620240"/>
                <a:ext cx="2271240" cy="55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9"/>
              <p:cNvSpPr/>
              <p:nvPr/>
            </p:nvSpPr>
            <p:spPr>
              <a:xfrm>
                <a:off x="900000" y="4675680"/>
                <a:ext cx="2271240" cy="5544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0"/>
              <p:cNvSpPr/>
              <p:nvPr/>
            </p:nvSpPr>
            <p:spPr>
              <a:xfrm>
                <a:off x="900000" y="4731120"/>
                <a:ext cx="2271240" cy="550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1"/>
              <p:cNvSpPr/>
              <p:nvPr/>
            </p:nvSpPr>
            <p:spPr>
              <a:xfrm>
                <a:off x="900000" y="4786560"/>
                <a:ext cx="2271240" cy="554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12"/>
              <p:cNvSpPr/>
              <p:nvPr/>
            </p:nvSpPr>
            <p:spPr>
              <a:xfrm>
                <a:off x="900000" y="4842000"/>
                <a:ext cx="2271240" cy="55440"/>
              </a:xfrm>
              <a:prstGeom prst="rect">
                <a:avLst/>
              </a:pr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AutoShape 13"/>
            <p:cNvSpPr/>
            <p:nvPr/>
          </p:nvSpPr>
          <p:spPr>
            <a:xfrm>
              <a:off x="2376360" y="4343400"/>
              <a:ext cx="1476000" cy="720720"/>
            </a:xfrm>
            <a:prstGeom prst="rightArrow">
              <a:avLst>
                <a:gd name="adj1" fmla="val 55250"/>
                <a:gd name="adj2" fmla="val 1235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14"/>
          <p:cNvSpPr/>
          <p:nvPr/>
        </p:nvSpPr>
        <p:spPr>
          <a:xfrm>
            <a:off x="4211640" y="3716280"/>
            <a:ext cx="360360" cy="2592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4859280" y="4559400"/>
            <a:ext cx="2592360" cy="287280"/>
          </a:xfrm>
          <a:prstGeom prst="rightArrow">
            <a:avLst>
              <a:gd name="adj1" fmla="val 50000"/>
              <a:gd name="adj2" fmla="val 225595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8"/>
          <p:cNvSpPr/>
          <p:nvPr/>
        </p:nvSpPr>
        <p:spPr>
          <a:xfrm>
            <a:off x="324000" y="5334120"/>
            <a:ext cx="3671640" cy="1218960"/>
          </a:xfrm>
          <a:prstGeom prst="cloudCallout">
            <a:avLst>
              <a:gd name="adj1" fmla="val -49439"/>
              <a:gd name="adj2" fmla="val 58333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wrong in 3 places.  Correc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ebf1"/>
                </a:solidFill>
                <a:latin typeface="Arial"/>
              </a:rPr>
              <a:t>Blue light and a Green filt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92468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blue light shines on a green filter, the blue  is absorb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no light passes through the fil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4211640" y="3429000"/>
            <a:ext cx="360360" cy="2879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4859280" y="4495680"/>
            <a:ext cx="2592360" cy="287280"/>
          </a:xfrm>
          <a:prstGeom prst="rightArrow">
            <a:avLst>
              <a:gd name="adj1" fmla="val 50000"/>
              <a:gd name="adj2" fmla="val 225595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6"/>
          <p:cNvSpPr/>
          <p:nvPr/>
        </p:nvSpPr>
        <p:spPr>
          <a:xfrm>
            <a:off x="324000" y="5445000"/>
            <a:ext cx="3671640" cy="1008360"/>
          </a:xfrm>
          <a:prstGeom prst="cloudCallout">
            <a:avLst>
              <a:gd name="adj1" fmla="val -49439"/>
              <a:gd name="adj2" fmla="val 70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iagram is wrong.  Correc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7"/>
          <p:cNvSpPr/>
          <p:nvPr/>
        </p:nvSpPr>
        <p:spPr>
          <a:xfrm>
            <a:off x="1258920" y="4495680"/>
            <a:ext cx="2592360" cy="287280"/>
          </a:xfrm>
          <a:prstGeom prst="rightArrow">
            <a:avLst>
              <a:gd name="adj1" fmla="val 50000"/>
              <a:gd name="adj2" fmla="val 225595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4678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ebf1"/>
                </a:solidFill>
                <a:latin typeface="Arial"/>
              </a:rPr>
              <a:t>Putting 2 filters together 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white light shines on a blue filter, it absorbs all of the colours except b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ed filter absorbs the b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 light passes through the fil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050920" y="4191120"/>
            <a:ext cx="360360" cy="19447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5148360" y="5126040"/>
            <a:ext cx="1368360" cy="216000"/>
          </a:xfrm>
          <a:prstGeom prst="rightArrow">
            <a:avLst>
              <a:gd name="adj1" fmla="val 50000"/>
              <a:gd name="adj2" fmla="val 158375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6705720" y="3213000"/>
            <a:ext cx="2057400" cy="2160720"/>
          </a:xfrm>
          <a:prstGeom prst="cloudCallout">
            <a:avLst>
              <a:gd name="adj1" fmla="val 61421"/>
              <a:gd name="adj2" fmla="val 7241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e the pieces of diagram to match the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7"/>
          <p:cNvGrpSpPr/>
          <p:nvPr/>
        </p:nvGrpSpPr>
        <p:grpSpPr>
          <a:xfrm>
            <a:off x="2556000" y="4838760"/>
            <a:ext cx="1800000" cy="720720"/>
            <a:chOff x="2556000" y="4838760"/>
            <a:chExt cx="1800000" cy="720720"/>
          </a:xfrm>
        </p:grpSpPr>
        <p:grpSp>
          <p:nvGrpSpPr>
            <p:cNvPr id="105" name="Group 8"/>
            <p:cNvGrpSpPr/>
            <p:nvPr/>
          </p:nvGrpSpPr>
          <p:grpSpPr>
            <a:xfrm>
              <a:off x="2556000" y="5004720"/>
              <a:ext cx="1384560" cy="388080"/>
              <a:chOff x="2556000" y="5004720"/>
              <a:chExt cx="1384560" cy="388080"/>
            </a:xfrm>
          </p:grpSpPr>
          <p:sp>
            <p:nvSpPr>
              <p:cNvPr id="106" name="Rectangle 9"/>
              <p:cNvSpPr/>
              <p:nvPr/>
            </p:nvSpPr>
            <p:spPr>
              <a:xfrm>
                <a:off x="2556000" y="5004720"/>
                <a:ext cx="1384560" cy="55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0"/>
              <p:cNvSpPr/>
              <p:nvPr/>
            </p:nvSpPr>
            <p:spPr>
              <a:xfrm>
                <a:off x="2556000" y="5060160"/>
                <a:ext cx="1384560" cy="550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1"/>
              <p:cNvSpPr/>
              <p:nvPr/>
            </p:nvSpPr>
            <p:spPr>
              <a:xfrm>
                <a:off x="2556000" y="5115600"/>
                <a:ext cx="1384560" cy="55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2"/>
              <p:cNvSpPr/>
              <p:nvPr/>
            </p:nvSpPr>
            <p:spPr>
              <a:xfrm>
                <a:off x="2556000" y="5171040"/>
                <a:ext cx="1384560" cy="5544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3"/>
              <p:cNvSpPr/>
              <p:nvPr/>
            </p:nvSpPr>
            <p:spPr>
              <a:xfrm>
                <a:off x="2556000" y="5226480"/>
                <a:ext cx="1384560" cy="550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4"/>
              <p:cNvSpPr/>
              <p:nvPr/>
            </p:nvSpPr>
            <p:spPr>
              <a:xfrm>
                <a:off x="2556000" y="5281920"/>
                <a:ext cx="1384560" cy="554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5"/>
              <p:cNvSpPr/>
              <p:nvPr/>
            </p:nvSpPr>
            <p:spPr>
              <a:xfrm>
                <a:off x="2556000" y="5337360"/>
                <a:ext cx="1384560" cy="55440"/>
              </a:xfrm>
              <a:prstGeom prst="rect">
                <a:avLst/>
              </a:pr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AutoShape 16"/>
            <p:cNvSpPr/>
            <p:nvPr/>
          </p:nvSpPr>
          <p:spPr>
            <a:xfrm>
              <a:off x="3456000" y="4838760"/>
              <a:ext cx="900000" cy="720720"/>
            </a:xfrm>
            <a:prstGeom prst="rightArrow">
              <a:avLst>
                <a:gd name="adj1" fmla="val 55250"/>
                <a:gd name="adj2" fmla="val 753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7"/>
          <p:cNvSpPr/>
          <p:nvPr/>
        </p:nvSpPr>
        <p:spPr>
          <a:xfrm>
            <a:off x="4572000" y="4262400"/>
            <a:ext cx="360360" cy="19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d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8"/>
          <p:cNvSpPr/>
          <p:nvPr/>
        </p:nvSpPr>
        <p:spPr>
          <a:xfrm flipH="1" rot="10800000">
            <a:off x="467280" y="5126040"/>
            <a:ext cx="1368360" cy="216000"/>
          </a:xfrm>
          <a:prstGeom prst="rightArrow">
            <a:avLst>
              <a:gd name="adj1" fmla="val 50000"/>
              <a:gd name="adj2" fmla="val 158375"/>
            </a:avLst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ebf1"/>
                </a:solidFill>
                <a:latin typeface="Arial"/>
              </a:rPr>
              <a:t>Putting 2 filters together - 2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ype your description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083040" y="4151160"/>
            <a:ext cx="360360" cy="1944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3659040" y="5014800"/>
            <a:ext cx="1368720" cy="216000"/>
          </a:xfrm>
          <a:prstGeom prst="rightArrow">
            <a:avLst>
              <a:gd name="adj1" fmla="val 50000"/>
              <a:gd name="adj2" fmla="val 15841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5940360" y="2514600"/>
            <a:ext cx="2951280" cy="1295280"/>
          </a:xfrm>
          <a:prstGeom prst="cloudCallout">
            <a:avLst>
              <a:gd name="adj1" fmla="val 44888"/>
              <a:gd name="adj2" fmla="val 12831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cribe what is going o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8"/>
          <p:cNvGrpSpPr/>
          <p:nvPr/>
        </p:nvGrpSpPr>
        <p:grpSpPr>
          <a:xfrm>
            <a:off x="1066680" y="4799160"/>
            <a:ext cx="1800360" cy="720720"/>
            <a:chOff x="1066680" y="4799160"/>
            <a:chExt cx="1800360" cy="720720"/>
          </a:xfrm>
        </p:grpSpPr>
        <p:grpSp>
          <p:nvGrpSpPr>
            <p:cNvPr id="122" name="Group 9"/>
            <p:cNvGrpSpPr/>
            <p:nvPr/>
          </p:nvGrpSpPr>
          <p:grpSpPr>
            <a:xfrm>
              <a:off x="1066680" y="4965120"/>
              <a:ext cx="1384920" cy="388080"/>
              <a:chOff x="1066680" y="4965120"/>
              <a:chExt cx="1384920" cy="388080"/>
            </a:xfrm>
          </p:grpSpPr>
          <p:sp>
            <p:nvSpPr>
              <p:cNvPr id="123" name="Rectangle 10"/>
              <p:cNvSpPr/>
              <p:nvPr/>
            </p:nvSpPr>
            <p:spPr>
              <a:xfrm>
                <a:off x="1066680" y="4965120"/>
                <a:ext cx="1384920" cy="55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066680" y="5020560"/>
                <a:ext cx="1384920" cy="550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1066680" y="5076000"/>
                <a:ext cx="1384920" cy="55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066680" y="5131440"/>
                <a:ext cx="1384920" cy="5544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1066680" y="5186880"/>
                <a:ext cx="1384920" cy="550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066680" y="5242320"/>
                <a:ext cx="1384920" cy="554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6"/>
              <p:cNvSpPr/>
              <p:nvPr/>
            </p:nvSpPr>
            <p:spPr>
              <a:xfrm>
                <a:off x="1066680" y="5297760"/>
                <a:ext cx="1384920" cy="55440"/>
              </a:xfrm>
              <a:prstGeom prst="rect">
                <a:avLst/>
              </a:pr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AutoShape 17"/>
            <p:cNvSpPr/>
            <p:nvPr/>
          </p:nvSpPr>
          <p:spPr>
            <a:xfrm>
              <a:off x="1967040" y="4799160"/>
              <a:ext cx="900000" cy="720720"/>
            </a:xfrm>
            <a:prstGeom prst="rightArrow">
              <a:avLst>
                <a:gd name="adj1" fmla="val 55250"/>
                <a:gd name="adj2" fmla="val 753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5315040" y="4151160"/>
            <a:ext cx="360360" cy="19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d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9"/>
          <p:cNvSpPr/>
          <p:nvPr/>
        </p:nvSpPr>
        <p:spPr>
          <a:xfrm>
            <a:off x="6107040" y="5014800"/>
            <a:ext cx="1368360" cy="216000"/>
          </a:xfrm>
          <a:prstGeom prst="rightArrow">
            <a:avLst>
              <a:gd name="adj1" fmla="val 50000"/>
              <a:gd name="adj2" fmla="val 158375"/>
            </a:avLst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1T12:40:36Z</dcterms:created>
  <dc:creator/>
  <dc:description/>
  <dc:language>en-US</dc:language>
  <cp:lastModifiedBy/>
  <dcterms:modified xsi:type="dcterms:W3CDTF">2017-04-26T20:02:20Z</dcterms:modified>
  <cp:revision>43</cp:revision>
  <dc:subject/>
  <dc:title>Part One:  Reflection and Absorption of Coloured Light</dc:title>
</cp:coreProperties>
</file>