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163-8BD5-44ED-806C-7FA53238A4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F7E-685F-4C80-B36A-8DA717D16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activity you are asked to find out about the different 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095-6D86-487F-A310-4FAB7E2CA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waves are used in some communication systems.  Do you have a microwave communic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should be easy to get a picture of a microwave oven, but how do the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EC96-D893-4F00-B514-5BA1EB34C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D183-88C1-4FC7-81AD-6DF4BA14A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7967-1004-4753-9A71-5A421438B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00"/>
                </a:solidFill>
                <a:latin typeface="Arial"/>
              </a:rPr>
              <a:t>This is an example page to show you the kind of information you are looking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00"/>
                </a:solidFill>
                <a:latin typeface="Arial"/>
              </a:rPr>
              <a:t>Once you get the idea you can delete these instru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5FC6-F26E-45B3-A049-44D60D34F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-rays were discovered by accident by “Wilhelm Rontgen” Search for him at the BBC http://www.bbc.co.uk/lear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an interesting X-ray photograph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A0F-C853-40A7-B053-2D3B609A3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arch the Internet for “ultraviolet ligh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39C2-3531-4309-B515-EAE7BF6C3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 lot of ways of remembering the order of the colours in the visibl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colours are our eyes most sensitive 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A680-6F68-4ED1-B847-72D7A5432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find “thermal images” or “infrared images” on the internet.  Find one that people will recogn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80FC-E9DD-4130-8C87-1284208F9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a picture of a source of gamma rays.  Gamma rays have medical uses.  Search for “gamma ray radiotherap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084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37A-EC26-455C-8C0C-F6066D4B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382-504E-4887-A16D-EAF6BA5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89D-FC7D-48D8-ABF8-FCD45B88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E15-75B2-4100-8205-6DB67A9D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002-E896-45E9-A36E-9CAC527C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277920"/>
            <a:ext cx="807732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678-CF68-42BD-A330-C67CEF6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F23-8015-42BD-B034-6283FB6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7B8-72FE-46CD-9714-11227277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5A1-A42B-44F7-A4E8-0B905BF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084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A8A-5BFD-42B7-9CF8-D9BF6EF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D08-4DBE-4580-85D2-AFC62BD9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12500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020840"/>
            <a:ext cx="26251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D4D-A5AF-4C59-8B2C-82E988F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77920"/>
            <a:ext cx="807732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402084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125000"/>
            <a:ext cx="39787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0840"/>
            <a:ext cx="815328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609480" y="83808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9966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-76320" y="-9360"/>
            <a:ext cx="38124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spectrum"/>
          <p:cNvPicPr/>
          <p:nvPr/>
        </p:nvPicPr>
        <p:blipFill>
          <a:blip r:embed="rId2"/>
          <a:stretch/>
        </p:blipFill>
        <p:spPr>
          <a:xfrm>
            <a:off x="250920" y="2819520"/>
            <a:ext cx="8642160" cy="380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5CF3-A47F-4475-8226-FE40B3701F1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666699"/>
                </a:solidFill>
                <a:latin typeface="Arial"/>
              </a:rPr>
              <a:t>The Electromagnetic Spectrum</a:t>
            </a:r>
            <a:endParaRPr b="1" lang="en-US" sz="5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earch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9966"/>
                </a:solidFill>
                <a:latin typeface="Arial"/>
              </a:rPr>
              <a:t>Put your names 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4d26da"/>
                </a:solidFill>
                <a:latin typeface="Arial"/>
              </a:rPr>
              <a:t>Physics for You</a:t>
            </a:r>
            <a:r>
              <a:rPr b="0" lang="en-GB" sz="3000" spc="-1" strike="noStrike">
                <a:solidFill>
                  <a:srgbClr val="4d26da"/>
                </a:solidFill>
                <a:latin typeface="Arial"/>
              </a:rPr>
              <a:t>, chapter 28, </a:t>
            </a:r>
            <a:br>
              <a:rPr sz="3000"/>
            </a:br>
            <a:r>
              <a:rPr b="0" lang="en-GB" sz="3000" spc="-1" strike="noStrike">
                <a:solidFill>
                  <a:srgbClr val="4d26da"/>
                </a:solidFill>
                <a:latin typeface="Arial"/>
              </a:rPr>
              <a:t>pages 212 – 22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Microwaves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4648320" y="4191120"/>
            <a:ext cx="4243320" cy="2333520"/>
          </a:xfrm>
          <a:prstGeom prst="cloudCallout">
            <a:avLst>
              <a:gd name="adj1" fmla="val 49777"/>
              <a:gd name="adj2" fmla="val 54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s water got to do with how a microwave oven work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50920" y="3962520"/>
            <a:ext cx="3940200" cy="2203200"/>
          </a:xfrm>
          <a:prstGeom prst="cloudCallout">
            <a:avLst>
              <a:gd name="adj1" fmla="val -44763"/>
              <a:gd name="adj2" fmla="val 73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waves aren’t just used for cooking. What else do they do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pic>
        <p:nvPicPr>
          <p:cNvPr id="127" name="Picture 17" descr="p 227"/>
          <p:cNvPicPr/>
          <p:nvPr/>
        </p:nvPicPr>
        <p:blipFill>
          <a:blip r:embed="rId1"/>
          <a:stretch/>
        </p:blipFill>
        <p:spPr>
          <a:xfrm>
            <a:off x="4876920" y="533520"/>
            <a:ext cx="365760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xtra Tasks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125360"/>
            <a:ext cx="807732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ete the instructions when you have finished your slidesh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some extra photographs to show how the electromagnetic spectrum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usef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23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99"/>
                </a:solidFill>
                <a:latin typeface="Arial"/>
              </a:rPr>
              <a:t>The Electromagnetic Spectrum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lectromagnetic spectrum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-r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ltra-vi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ble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ra-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wa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29"/>
          <p:cNvSpPr/>
          <p:nvPr/>
        </p:nvSpPr>
        <p:spPr>
          <a:xfrm>
            <a:off x="5715000" y="4191120"/>
            <a:ext cx="2655720" cy="1684080"/>
          </a:xfrm>
          <a:prstGeom prst="cloudCallout">
            <a:avLst>
              <a:gd name="adj1" fmla="val 62972"/>
              <a:gd name="adj2" fmla="val 85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your slides in this order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Radio waves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o waves are used to send signals to televisions and ra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reflect off the ionosphere in the atmosphere they can travel long distances.  These are called “skywaves” (see page 21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don’t carry much energy and so are not dange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30"/>
          <p:cNvSpPr/>
          <p:nvPr/>
        </p:nvSpPr>
        <p:spPr>
          <a:xfrm>
            <a:off x="4495680" y="2514600"/>
            <a:ext cx="4267440" cy="2395800"/>
          </a:xfrm>
          <a:prstGeom prst="cloudCallout">
            <a:avLst>
              <a:gd name="adj1" fmla="val -65990"/>
              <a:gd name="adj2" fmla="val 79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9966"/>
                </a:solidFill>
                <a:latin typeface="Arial"/>
              </a:rPr>
              <a:t>This example page shows the kind of information you are looking for.</a:t>
            </a:r>
            <a:endParaRPr b="0" lang="en-US" sz="1600" spc="-1" strike="noStrike">
              <a:solidFill>
                <a:srgbClr val="9999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9966"/>
                </a:solidFill>
                <a:latin typeface="Arial"/>
              </a:rPr>
              <a:t>Once you get the idea you can delete these instructions.</a:t>
            </a:r>
            <a:endParaRPr b="0" lang="en-US" sz="1600" spc="-1" strike="noStrike">
              <a:solidFill>
                <a:srgbClr val="999966"/>
              </a:solidFill>
              <a:latin typeface="Arial"/>
            </a:endParaRPr>
          </a:p>
        </p:txBody>
      </p:sp>
      <p:pic>
        <p:nvPicPr>
          <p:cNvPr id="99" name="Picture 1049" descr="p 221-3"/>
          <p:cNvPicPr/>
          <p:nvPr/>
        </p:nvPicPr>
        <p:blipFill>
          <a:blip r:embed="rId1"/>
          <a:stretch/>
        </p:blipFill>
        <p:spPr>
          <a:xfrm>
            <a:off x="762120" y="3505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X-rays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48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30"/>
          <p:cNvSpPr/>
          <p:nvPr/>
        </p:nvSpPr>
        <p:spPr>
          <a:xfrm>
            <a:off x="479520" y="4191120"/>
            <a:ext cx="3254400" cy="1974600"/>
          </a:xfrm>
          <a:prstGeom prst="cloudCallout">
            <a:avLst>
              <a:gd name="adj1" fmla="val -44583"/>
              <a:gd name="adj2" fmla="val 786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vered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04" name="AutoShape 1031"/>
          <p:cNvSpPr/>
          <p:nvPr/>
        </p:nvSpPr>
        <p:spPr>
          <a:xfrm>
            <a:off x="5334120" y="4038480"/>
            <a:ext cx="3558960" cy="2127240"/>
          </a:xfrm>
          <a:prstGeom prst="cloudCallout">
            <a:avLst>
              <a:gd name="adj1" fmla="val 46208"/>
              <a:gd name="adj2" fmla="val 74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you find some X-Ray photograph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Ultra-violet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35"/>
          <p:cNvSpPr/>
          <p:nvPr/>
        </p:nvSpPr>
        <p:spPr>
          <a:xfrm>
            <a:off x="5867280" y="3962520"/>
            <a:ext cx="2954520" cy="2347920"/>
          </a:xfrm>
          <a:prstGeom prst="cloudCallout">
            <a:avLst>
              <a:gd name="adj1" fmla="val 49300"/>
              <a:gd name="adj2" fmla="val 65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ultra-violet waves dangerou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09" name="AutoShape 1039"/>
          <p:cNvSpPr/>
          <p:nvPr/>
        </p:nvSpPr>
        <p:spPr>
          <a:xfrm>
            <a:off x="684360" y="3962520"/>
            <a:ext cx="2879640" cy="2203200"/>
          </a:xfrm>
          <a:prstGeom prst="cloudCallout">
            <a:avLst>
              <a:gd name="adj1" fmla="val -58379"/>
              <a:gd name="adj2" fmla="val 70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ve UV waves go to do with suntan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Visible Light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48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4500720" y="3238560"/>
            <a:ext cx="4319280" cy="2857320"/>
          </a:xfrm>
          <a:prstGeom prst="cloudCallout">
            <a:avLst>
              <a:gd name="adj1" fmla="val 51101"/>
              <a:gd name="adj2" fmla="val 71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colours of the visible spectrum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you remember them in order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84360" y="3809880"/>
            <a:ext cx="2950920" cy="2355840"/>
          </a:xfrm>
          <a:prstGeom prst="cloudCallout">
            <a:avLst>
              <a:gd name="adj1" fmla="val -58175"/>
              <a:gd name="adj2" fmla="val 69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you find a picture of the visible spectrum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Infra-red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480" y="1125000"/>
            <a:ext cx="4000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419720" y="4419720"/>
            <a:ext cx="4329000" cy="1888920"/>
          </a:xfrm>
          <a:prstGeom prst="cloudCallout">
            <a:avLst>
              <a:gd name="adj1" fmla="val 53078"/>
              <a:gd name="adj2" fmla="val 69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you find any infra-red “thermal” image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574560" y="4191120"/>
            <a:ext cx="3311640" cy="2262240"/>
          </a:xfrm>
          <a:prstGeom prst="cloudCallout">
            <a:avLst>
              <a:gd name="adj1" fmla="val -47361"/>
              <a:gd name="adj2" fmla="val 6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ypes of objects give out infra-red light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99"/>
                </a:solidFill>
                <a:latin typeface="Arial"/>
              </a:rPr>
              <a:t>Gamma rays</a:t>
            </a:r>
            <a:endParaRPr b="1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663480" y="4724280"/>
            <a:ext cx="3527640" cy="1517760"/>
          </a:xfrm>
          <a:prstGeom prst="cloudCallout">
            <a:avLst>
              <a:gd name="adj1" fmla="val -50856"/>
              <a:gd name="adj2" fmla="val 82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produces gamma rays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876920" y="3809880"/>
            <a:ext cx="4016160" cy="2355840"/>
          </a:xfrm>
          <a:prstGeom prst="cloudCallout">
            <a:avLst>
              <a:gd name="adj1" fmla="val 46638"/>
              <a:gd name="adj2" fmla="val 72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gamma rays can cause cancer, why are they used to treat it too?</a:t>
            </a:r>
            <a:endParaRPr b="0" lang="en-US" sz="2400" spc="-1" strike="noStrike">
              <a:solidFill>
                <a:srgbClr val="99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    www.physics4u.co.uk</dc:creator>
  <dc:description/>
  <dc:language>en-US</dc:language>
  <cp:lastModifiedBy>Keith</cp:lastModifiedBy>
  <dcterms:modified xsi:type="dcterms:W3CDTF">2017-04-26T19:49:01Z</dcterms:modified>
  <cp:revision>50</cp:revision>
  <dc:subject/>
  <dc:title>The Electromagnetic Spectrum</dc:title>
</cp:coreProperties>
</file>