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326-3E7F-46A8-B05D-88CA1615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811-A026-4655-8A31-EAA5767B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983-F69C-4757-8EAA-45B6E2CA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489-9559-4494-8C88-061FD3B7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DB3-BCD5-4CCD-A43B-AF3FB9E4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6BC-29E4-4A8F-A284-A78A7532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4FC-3448-4966-B6D1-3D1F1DEB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F3B-96AE-480F-984A-FCDBE583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D43-DE95-4F6D-A518-9E0ED766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74E-D95F-4CB4-8133-9180AEE2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5B7-634E-41C3-9901-79B35A5D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6AD-ACB7-4DED-B448-F438A96B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5D10-40FD-4C23-8AD6-29325FD840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75640" y="4919760"/>
            <a:ext cx="247680" cy="11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62120" y="5715000"/>
            <a:ext cx="62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28 – 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762120" y="1366920"/>
            <a:ext cx="792468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owerPoint file contains the Plenary for this chapter in </a:t>
            </a:r>
            <a:br>
              <a:rPr sz="1800"/>
            </a:br>
            <a:r>
              <a:rPr b="0" i="1" lang="en-GB" sz="1800" spc="-1" strike="noStrike">
                <a:solidFill>
                  <a:srgbClr val="3333cc"/>
                </a:solidFill>
                <a:latin typeface="Arial"/>
              </a:rPr>
              <a:t>Physics For Yo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owerPoint of 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well they have understood each section of work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o view a PowerPoint in ‘Full Screen’ mode, press Function key &lt;F5&gt;, 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(or right-click your mouse and select ‘Full Screen’).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Press &lt;Escape&gt; to go to Edit m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8 : Colour  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4643280" y="1484280"/>
            <a:ext cx="1441440" cy="1224000"/>
          </a:xfrm>
          <a:prstGeom prst="triangle">
            <a:avLst>
              <a:gd name="adj" fmla="val 50000"/>
            </a:avLst>
          </a:prstGeom>
          <a:solidFill>
            <a:srgbClr val="ccffcc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4"/>
          <p:cNvSpPr/>
          <p:nvPr/>
        </p:nvSpPr>
        <p:spPr>
          <a:xfrm flipV="1">
            <a:off x="3492360" y="2060280"/>
            <a:ext cx="151128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5"/>
          <p:cNvSpPr/>
          <p:nvPr/>
        </p:nvSpPr>
        <p:spPr>
          <a:xfrm>
            <a:off x="5003640" y="2060640"/>
            <a:ext cx="72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6"/>
          <p:cNvSpPr/>
          <p:nvPr/>
        </p:nvSpPr>
        <p:spPr>
          <a:xfrm>
            <a:off x="5003640" y="2060640"/>
            <a:ext cx="79236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5796000" y="2276640"/>
            <a:ext cx="1944720" cy="93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 rot="1507200">
            <a:off x="7884720" y="2276640"/>
            <a:ext cx="73080" cy="13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 rot="17400000">
            <a:off x="7565040" y="28119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5724360" y="2060640"/>
            <a:ext cx="230364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 flipV="1">
            <a:off x="3494880" y="2195640"/>
            <a:ext cx="1074600" cy="30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684360" y="141300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is th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ght on the scre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39640" y="42069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 the 7 colours of the spectrum, in the correct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8 : Colour  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4643280" y="1484280"/>
            <a:ext cx="1441440" cy="1224000"/>
          </a:xfrm>
          <a:prstGeom prst="triangle">
            <a:avLst>
              <a:gd name="adj" fmla="val 50000"/>
            </a:avLst>
          </a:prstGeom>
          <a:solidFill>
            <a:srgbClr val="ccffcc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41300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is th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ght on the scre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"/>
          <p:cNvSpPr/>
          <p:nvPr/>
        </p:nvSpPr>
        <p:spPr>
          <a:xfrm flipV="1">
            <a:off x="3492360" y="2060280"/>
            <a:ext cx="151128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>
            <a:off x="5003640" y="2060640"/>
            <a:ext cx="72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>
            <a:off x="5003640" y="2060640"/>
            <a:ext cx="79236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8"/>
          <p:cNvSpPr/>
          <p:nvPr/>
        </p:nvSpPr>
        <p:spPr>
          <a:xfrm>
            <a:off x="5796000" y="2276640"/>
            <a:ext cx="1944720" cy="93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"/>
          <p:cNvSpPr/>
          <p:nvPr/>
        </p:nvSpPr>
        <p:spPr>
          <a:xfrm rot="1507200">
            <a:off x="7884720" y="2276640"/>
            <a:ext cx="73080" cy="13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 rot="17400000">
            <a:off x="7565040" y="28119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5724360" y="2060640"/>
            <a:ext cx="230364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 flipV="1">
            <a:off x="3494880" y="2195640"/>
            <a:ext cx="1074600" cy="30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539640" y="42069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 the 7 colours of the spectrum, in the correct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7380360" y="1844640"/>
            <a:ext cx="863640" cy="720720"/>
            <a:chOff x="7380360" y="1844640"/>
            <a:chExt cx="863640" cy="720720"/>
          </a:xfrm>
        </p:grpSpPr>
        <p:sp>
          <p:nvSpPr>
            <p:cNvPr id="71" name="Text Box 16"/>
            <p:cNvSpPr/>
            <p:nvPr/>
          </p:nvSpPr>
          <p:spPr>
            <a:xfrm>
              <a:off x="7380360" y="1844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7"/>
            <p:cNvSpPr/>
            <p:nvPr/>
          </p:nvSpPr>
          <p:spPr>
            <a:xfrm>
              <a:off x="7812000" y="2205000"/>
              <a:ext cx="14472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Text Box 18"/>
          <p:cNvSpPr/>
          <p:nvPr/>
        </p:nvSpPr>
        <p:spPr>
          <a:xfrm>
            <a:off x="3048120" y="299736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Remember: “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lue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nds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s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933480" y="495288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7700"/>
                </a:solidFill>
                <a:latin typeface="Arial"/>
              </a:rPr>
              <a:t>Or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d2cd00"/>
                </a:solidFill>
                <a:latin typeface="Arial"/>
              </a:rPr>
              <a:t>Yello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e000"/>
                </a:solidFill>
                <a:latin typeface="Arial"/>
              </a:rPr>
              <a:t>Gre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Blu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a04dc"/>
                </a:solidFill>
                <a:latin typeface="Arial"/>
              </a:rPr>
              <a:t>Indigo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d800d8"/>
                </a:solidFill>
                <a:latin typeface="Arial"/>
              </a:rPr>
              <a:t>Violet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d800d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ff7700"/>
                </a:solidFill>
                <a:latin typeface="Arial"/>
              </a:rPr>
              <a:t>O</a:t>
            </a:r>
            <a:r>
              <a:rPr b="1" lang="en-GB" sz="2400" spc="-1" strike="noStrike">
                <a:solidFill>
                  <a:srgbClr val="d2cd00"/>
                </a:solidFill>
                <a:latin typeface="Arial"/>
              </a:rPr>
              <a:t>Y</a:t>
            </a:r>
            <a:r>
              <a:rPr b="1" lang="en-GB" sz="2400" spc="-1" strike="noStrike">
                <a:solidFill>
                  <a:srgbClr val="d800d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e000"/>
                </a:solidFill>
                <a:latin typeface="Arial"/>
              </a:rPr>
              <a:t>G</a:t>
            </a:r>
            <a:r>
              <a:rPr b="1" lang="en-GB" sz="2400" spc="-1" strike="noStrike">
                <a:solidFill>
                  <a:srgbClr val="d800d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en-GB" sz="2400" spc="-1" strike="noStrike">
                <a:solidFill>
                  <a:srgbClr val="8a04dc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d800d8"/>
                </a:solidFill>
                <a:latin typeface="Arial"/>
              </a:rPr>
              <a:t>V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0"/>
          <p:cNvSpPr/>
          <p:nvPr/>
        </p:nvSpPr>
        <p:spPr>
          <a:xfrm flipH="1">
            <a:off x="7988040" y="2640600"/>
            <a:ext cx="25920" cy="7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380880"/>
            <a:ext cx="769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8 : Colour   2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2120" y="1628640"/>
            <a:ext cx="7848360" cy="43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type of wave is used to check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a £20 note is a forge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type of wave is given off by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bile ph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do we use infra-red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ll in the gaps: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, X-rays, UV, visible light,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, microwaves,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762120" y="380880"/>
            <a:ext cx="769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8 : Colour   2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62120" y="1628640"/>
            <a:ext cx="7848360" cy="43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type of wave is used to check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a £20 note is a forge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type of wave is given off by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bile ph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do we use infra-red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ll in the gaps: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, X-rays, UV, visible light,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, microwaves,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059280" y="381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158440" y="2062080"/>
            <a:ext cx="1774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Ultra-vio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116720" y="4208400"/>
            <a:ext cx="7604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g. TV remote control,  heating,  treating sports inju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258920" y="5111640"/>
            <a:ext cx="1873080" cy="36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Gamma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762600" y="5122800"/>
            <a:ext cx="1235160" cy="36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infra-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200400" y="5559480"/>
            <a:ext cx="1943280" cy="36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radio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000680" y="3149640"/>
            <a:ext cx="1942920" cy="36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cro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6836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8 : Colour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897480"/>
            <a:ext cx="837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 these words to complete the sent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Colours  black  blue   wavelengths  red  absorb   white  reflects  yello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ght is a mixture of different wavelengths of light. We see these different wavelengths as differen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white light hits a white object, all of th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__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reflec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bject will only reflect red light, and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the other wavelengths.   So only red light from it reaches our 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bject absorbs all the wavelengths, and hardly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y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lue car will look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der a yellow street light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it only reflects blue, and there’s n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gh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tt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6836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8 : Colour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68360" y="897480"/>
            <a:ext cx="837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 these words to complete the sent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Colours  black  blue   wavelengths  red  absorb   white  reflects  yello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ght is a mixture of different wavelengths of light. We see these different wavelengths as differen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white light hits a white object, all of th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__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reflec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bject will only reflect red light, and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the other wavelengths.   So only red light from it reaches our 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bject absorbs all the wavelengths, and hardly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y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lue car will look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der a yellow street light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it only reflects blue, and there’s n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gh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tt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059280" y="381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39640" y="1828800"/>
            <a:ext cx="1224000" cy="3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031160" y="2222640"/>
            <a:ext cx="1509480" cy="3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649920" y="2562120"/>
            <a:ext cx="1873440" cy="3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wave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26920" y="3295800"/>
            <a:ext cx="720720" cy="3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391440" y="3305160"/>
            <a:ext cx="1008000" cy="3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bs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808200" y="4168800"/>
            <a:ext cx="1096920" cy="3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39640" y="4549680"/>
            <a:ext cx="1295640" cy="3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refl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3124080" y="5054760"/>
            <a:ext cx="1295640" cy="3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6478560" y="5416560"/>
            <a:ext cx="912960" cy="3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26T19:56:50Z</dcterms:modified>
  <cp:revision>49</cp:revision>
  <dc:subject>Physics for You Support File</dc:subject>
  <dc:title>Physics for You</dc:title>
</cp:coreProperties>
</file>