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FEA-F1CE-4C90-85DB-11C172AF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C4E-A5CD-4802-BEBA-A984789F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D2F-20D6-4178-840A-FAF545E5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D79-4526-437B-85A5-16EB8E32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B4F-21E3-4179-8E92-ECFFB97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5D2-EB6E-4E8A-9CAF-07796C9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526-A19F-47A6-A75F-8FCA9B6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556-6D28-4C9B-A528-6C9923E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189-FD41-4572-B471-B313A04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730-16A3-42E3-8C9E-44E0053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38B-A74E-437F-8613-03B4405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3CC-AC0F-4DC5-B2D1-2EB809EB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CBC5-8241-4C3C-8463-C1FCE54AC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6"/>
          <p:cNvSpPr/>
          <p:nvPr/>
        </p:nvSpPr>
        <p:spPr>
          <a:xfrm>
            <a:off x="762120" y="380880"/>
            <a:ext cx="670536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Visible spectr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762120" y="202392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ee different wavelengths of light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differen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 light is a mixture of colou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disperse these with a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rder that colours appear in the spectrum :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9900ff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62120" y="380880"/>
            <a:ext cx="6705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2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2120" y="2103480"/>
            <a:ext cx="77724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sible spectrum is a tiny part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uch larger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ames of the electromagnetic waves, and the order they appear i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s, uses and danger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t of the spect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62120" y="380880"/>
            <a:ext cx="670536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Using EM Wav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62120" y="1676520"/>
            <a:ext cx="77724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‘black body’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obile phone networks operate and the possibl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ce betwee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nalog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mmunication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elescopes can observe different parts of the electromagnetic spect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62120" y="380880"/>
            <a:ext cx="670536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8 : Colour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loured Ligh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2120" y="1676520"/>
            <a:ext cx="777240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ters and pigments work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ubtrac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lours from whit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ed objects reflect certain wavelengths and absorb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ed lights can b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dd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orm white l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colour can be made from the correct mixture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ima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l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26T19:42:58Z</dcterms:modified>
  <cp:revision>20</cp:revision>
  <dc:subject>Physics for You Support File</dc:subject>
  <dc:title>Physics for You</dc:title>
</cp:coreProperties>
</file>